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D13-6A63-496E-915D-E9397C50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DAA9-4142-468B-8713-1ECF3BF9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F2A-F9B2-4331-8670-CFE4EB3E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FAE-6B19-4E73-9D87-B00BBEF5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2F7-CFC2-4D44-9EAF-30C40EE4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407-DD3E-4D1E-A8C3-7A713D0C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F7C-26BE-4C5F-BC8C-AEF39571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D2B-2380-43FD-88A6-FFC1DDB3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656-CD64-412B-AF8E-E7D33182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44D-D287-4BDB-BA05-98F23B97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8E0-B14B-4C70-8FB5-D9545686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A6B-E5DD-436A-83C0-ECEC2A9B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CCEB-34A3-4C9C-B5D8-56D0FA4F8F8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12A-</a:t>
            </a: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至極的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主你愛何等深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過於我所能測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深廣遠超海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愛竟然臨及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叫你捨了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要叫我得著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叫你與我合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叫我成為你肢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所給所作太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過於我所能述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最大乃是與我聯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且與我相調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叫你成為我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作我一切的供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叫我享受你的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時時以你為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就是你的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那神聖的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作了我的人生意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活著就是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是我的生命力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給我所經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你的恩愛對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經所歷全是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什麼能使你我分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就必愛到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必與我永遠合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剛強無可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愛使我感激不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是我讚美的目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成為我 我成為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是你愛的至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37:15Z</dcterms:created>
  <dc:creator>陳建中</dc:creator>
  <dc:description/>
  <dc:language>en-US</dc:language>
  <cp:lastModifiedBy>陳建中</cp:lastModifiedBy>
  <dcterms:modified xsi:type="dcterms:W3CDTF">2016-06-08T16:39:27Z</dcterms:modified>
  <cp:revision>6</cp:revision>
  <dc:subject/>
  <dc:title>PowerPoint 簡報</dc:title>
</cp:coreProperties>
</file>