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DB7-2C7D-4AB6-92A3-BB264D79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220-0F0D-4092-9D40-5A262AA5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E82-F61E-4E13-A0C2-8E62E262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D1A-FAB6-42A7-8F5B-70A8FDEB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B73-9CA2-49C3-BF07-481CE784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C84-F8FC-4DF6-8648-0B57E525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FFD-B9BB-47C8-8C93-1672ED2E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801-3A0D-4BB1-9DCC-3E306F23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FE0-EF04-43DD-BC37-2807539C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909-B9B2-4BB2-8933-1C6E5D5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1E2-FDA5-45FD-B78F-FCCC7C2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02A-94D5-4DA7-AC12-1548C49A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E6F9-CE72-401D-A439-09EAB88B138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深居神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更深來關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仇敵引誘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四面散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非不知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撒但的詭計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近藏深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隱密處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日日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愛中 祂來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時刻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日頭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不下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恩典常伴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靠之心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增長充足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應許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植於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時親嚐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窮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日日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愛中 祂來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時刻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日頭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不下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相信並摯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安息於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感覺之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安慰醫治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發自祂心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屬天生命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得預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日日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愛中 祂來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時刻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日頭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不下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成為活水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恩言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傳祂故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等祂來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誇讚並獎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殿中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生一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日日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住祂愛中 祂來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居神裡 時刻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日頭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不下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Jeff Xiang</cp:lastModifiedBy>
  <dcterms:modified xsi:type="dcterms:W3CDTF">2021-08-18T22:53:57Z</dcterms:modified>
  <cp:revision>8</cp:revision>
  <dc:subject/>
  <dc:title>PowerPoint 簡報</dc:title>
</cp:coreProperties>
</file>