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E229-936C-4E4A-ABBD-5EFCD60E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DA2-1138-4566-B2F9-41463178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70D5-1AB5-4F6F-9A6A-28CBE71F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91E-164C-4F08-80CA-3E940A80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CFC-FFF4-4E19-A6E7-90B0CF52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245F-6235-452B-9788-183000A4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8C0-72F7-4A9B-BA68-D6992CBC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2DEB-AF5A-4AC1-BE0F-C17B3E26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95A-242E-40BF-B095-42720D1A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23C1-C75B-4556-9FD4-B80CEC3B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1E46-466D-4240-8153-05ADD4D9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EE9-5190-4D03-8281-B61DE9C5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980F-8676-4993-A052-6FDD1B8F0D2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榮耀你聖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父啊 我們將讚美與愛戴歸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全地將榮耀歸你聖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你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你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全地將榮耀歸你聖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 我們將讚美與愛戴歸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全地將榮耀歸你聖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你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你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全地將榮耀歸你聖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聖靈 我們將讚美與愛戴歸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領我到主前尊祂為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領我到主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領我到主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領我到主前尊祂為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30:12Z</dcterms:modified>
  <cp:revision>60</cp:revision>
  <dc:subject/>
  <dc:title>PowerPoint 簡報</dc:title>
</cp:coreProperties>
</file>