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2013-D654-4F8C-A676-BDACEDAF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8767-65DD-4C13-A300-F8F3B0AA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E85-BF18-4550-A03D-E09DBD38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FE98-3331-43A9-BE9C-547E4FEE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5D3B-8191-47F8-940E-A422B73D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F070-12E3-49F6-AFA6-69A971ED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8B2F-2CA8-44B6-9439-1A37D6FC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A3F4-982B-41AF-A27E-A5979E4B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FA50-5280-49B5-803E-94F35D70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64D1-1F6E-4670-A49D-D126F85A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173F-DCA7-48AD-B4C6-E608911F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D59B-309E-4A0E-9853-87F441F2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B422-68B3-4024-9C6B-8AA1B006C42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渴慕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中飢渴地愛慕著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中飢渴地愛慕著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雖然我知道祂常在我身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仍要渴望見著祂的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心中渴慕著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中飢渴地愛慕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求接近祂 常與祂同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中飢渴地愛慕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中渴望能夠追隨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中渴望祂親手提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我感到祂親自帶領著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感到祂的愛永遠不離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心中渴慕著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中飢渴地愛慕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求接近祂 常與祂同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中飢渴地愛慕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也許並不知道誰是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還沒享受人生的最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啊 你能否接受祂作你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領受祂豐盛無量的恩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心中渴慕著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中飢渴地愛慕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求接近祂 常與祂同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中飢渴地愛慕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20:12Z</dcterms:modified>
  <cp:revision>32</cp:revision>
  <dc:subject/>
  <dc:title>PowerPoint 簡報</dc:title>
</cp:coreProperties>
</file>