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5CD-FBB5-4DF3-A687-A47EE51A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B3E-5258-4FC1-8B79-4FBA45DF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DE9-E651-47A5-861D-EBDE4608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A2F-35FC-4E4F-BD95-B6D6B69A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897-7E48-47F4-8F6F-E5EE220A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AE3-C5FB-4656-9F9F-FF8D0EA6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DC4-1F90-4574-B57A-F3AFC1D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395-7552-4553-9C4C-FED0D76B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F7E-4B35-4C39-9750-1861CD96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DA0-1925-49D7-ADD8-9374788C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277-E06D-4AE4-A2BE-92A8B8AB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F88-9092-476C-8433-2E1B9820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0B2D-A18A-4FE4-AA39-A3D9A134091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羔羊的新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美哉 善哉 羔羊的新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福音賜下無比快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唱哪 祂再降臨接聖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再耽延 教會已成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能看見前所求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也能領受久所羨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永能傾吐此心情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祂只有一前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聲讚美口唱心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古以來無此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歌再唱聲音應明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歌題目應當一直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唱至內心歡喜會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唱至天下佈滿此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唱至所有蒙愛新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都唱此歌不肯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聲讚美口唱心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古以來無此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基督降生下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離去尊榮是為救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如此奇恩舉世皆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愚人也會感驚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聲讚美口唱心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古以來無此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聽哪 歌聲由天飄揚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神就是光 神也就是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世界所有悲傷淚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地上一切不安罪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完全不管你是誰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都已為還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聲讚美口唱心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古以來無此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應當高歌 因審判已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主聯合 我們已復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們已在墳墓那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立在死亡不到地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仇敵浮沉紅海中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賜稱義的把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大聲讚美口唱心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歸主 榮耀歸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自古以來無此詩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榮耀至高的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8:06Z</dcterms:modified>
  <cp:revision>27</cp:revision>
  <dc:subject/>
  <dc:title>PowerPoint 簡報</dc:title>
</cp:coreProperties>
</file>