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96EF-4678-4A33-9892-0F85E2EF4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E477-2AF2-495D-AC0C-EC0F76BA1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8223-DE2B-4606-9F08-F19E1228C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FEAC-3580-445E-A6B9-2FA1B4A49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A1A7-86B0-4DBA-8176-E87A94711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7EE9-9B27-4ADB-9D57-54E7A5BFD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21A0-B2D2-4443-A3D4-2C6C12740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3A86-C8AA-4400-9CC2-A410CBA02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856B-C40B-4B8A-AB79-B6AF76040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B092-4034-45A0-9CA8-BC93AB8D3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850B-F81A-4A24-8078-7FF2BBE3F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0A37-2A14-4142-AAC6-070827B2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13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99745-E4DC-4D37-88FE-83A9E976FA53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 u="sng">
                <a:solidFill>
                  <a:srgbClr val="ffffff"/>
                </a:solidFill>
                <a:uFillTx/>
                <a:latin typeface="標楷體"/>
                <a:ea typeface="標楷體"/>
              </a:rPr>
              <a:t>更深進入你的愛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更深進入你的愛耶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靈不住切求呼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直到我生命全隱入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潔淨恩泉最深處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更深入聖潔生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消逝於基督我神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與我恩主同隱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此為我在世路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必謙卑與耶穌同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走在祂所領路徑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毫無怨言永不躊躇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聽從祂一切吩咐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更深入聖潔生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消逝於基督我神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與我恩主同隱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此為我在世路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3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每日我必尋求祂喜悅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不論是樂或遭苦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因我知那是何等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天堂賞賜價無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更深入聖潔生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消逝於基督我神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與我恩主同隱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此為我在世路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4.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更深進入到最後榮耀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將變成祂容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那時與歷世眾聖徒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被迎入天家樂土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副歌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更深入聖潔生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消逝於基督我神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與我恩主同隱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此為我在世路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12192120" cy="67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6000" spc="-1" strike="noStrike">
              <a:solidFill>
                <a:srgbClr val="ffffff"/>
              </a:solidFill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8T16:05:16Z</dcterms:created>
  <dc:creator>陳建中</dc:creator>
  <dc:description/>
  <dc:language>en-US</dc:language>
  <cp:lastModifiedBy>陳建中</cp:lastModifiedBy>
  <dcterms:modified xsi:type="dcterms:W3CDTF">2016-06-08T16:09:51Z</dcterms:modified>
  <cp:revision>6</cp:revision>
  <dc:subject/>
  <dc:title>PowerPoint 簡報</dc:title>
</cp:coreProperties>
</file>