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C4B-4D73-42BA-B7A8-0771D291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75D-FC59-4734-B0CA-4D4E8407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81E-E2C8-4700-A349-985D00E0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124-F0BE-4F33-8F7D-1FDCFE0C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E61-2885-4DA2-9BF6-32662643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9D3-B566-4367-B556-DC79AAD6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B32-D64E-42BC-942E-9871CD7F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03F-9450-422B-8CD3-767884B2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213-CAE9-4B95-9FA2-A6A078EF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CBA-4D9B-4C88-94C8-0EBD4AC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C59-8EC6-42A3-983F-0285AEE6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4B1-DAF4-4699-B4B9-798B4E1B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C714-9E91-49A7-9854-9FEC4781D42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默念我主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主啊在你面前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......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在你面前我心何其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遭難時你懷中可投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白晝之安慰 我黑夜之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指望我救主 我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哎 親愛的牧者去那裡放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領到那塊草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何我在死蔭之幽谷心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何我在曠野飲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何我要飄流而遠離了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沙漠中哭號求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仇敵一見我流淚必暗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必笑我因貪食而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問錫安眾女子請你告訴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否看見雅各之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良人曾否由你帳棚經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何處將羊群前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良人一舉目眾天使下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面前有萬軍敬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良人一開口全宇宙傳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到永遠應聲讚美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最親愛的牧者 我來跟隨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認得你召我美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甦醒我靈魂 惟你合我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你常常滿足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5:48Z</dcterms:modified>
  <cp:revision>21</cp:revision>
  <dc:subject/>
  <dc:title>PowerPoint 簡報</dc:title>
</cp:coreProperties>
</file>