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4CD-80BC-4E41-9EEA-73609894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94E-65D6-4E32-A294-63BC7497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CD1-F007-47AD-BA7B-0C6DB5FE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541-6E16-4FA3-BEF5-FC846440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9B28-B0E6-44F1-BAE3-FD487CBB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830-E2B5-4DEE-9880-7849134F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3B8-57E8-4379-93E1-2CA2FC4D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142-213C-48B8-B7A2-1FBED848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E89-AE3B-4FC2-83AB-4E208EF5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8A3-9E03-41C8-93AE-AB76283F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ACD-19E7-4015-8D1B-3BE9FFFA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A80-324A-4884-A49C-A7574574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F28A-DBE5-45A0-A26A-BB48045A5BA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充滿我心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充滿我心 一切異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只見耶穌 是我懇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經死蔭谷 救主前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榮耀光浪 四繞無消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神聖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主榮耀從我靈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致能共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聖潔容形 自我內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使我每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皆為主榮耀 心靈長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矢效主完全 聖愛光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照浮生小徑 烈烈自高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3048120" y="269064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副歌</a:t>
            </a:r>
            <a:r>
              <a:rPr b="0" lang="en-US" sz="16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充滿我心景 神聖救主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直到主榮耀從我靈映出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充滿我心景 致能共睹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王漢宗顏楷體繁"/>
                <a:ea typeface="王漢宗顏楷體繁"/>
              </a:rPr>
              <a:t>主聖潔容形 自我內映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神聖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主榮耀從我靈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致能共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聖潔容形 自我內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使無罪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免遮蔽我衷 光華輝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只見你 有福面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長飽享你無限恩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神聖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主榮耀從我靈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充滿我心景 致能共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聖潔容形 自我內映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5:28Z</dcterms:modified>
  <cp:revision>20</cp:revision>
  <dc:subject/>
  <dc:title>PowerPoint 簡報</dc:title>
</cp:coreProperties>
</file>