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A71-A9D1-4B99-9D3E-AF53786B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536-7B73-4D77-9197-207111A8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D04-B3D6-4EB4-AC38-54886A9C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21C-97E6-415B-A837-C2CDD4E3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B83-4300-4DA9-A636-70EC83F2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19C-7A4B-4C1A-A8B1-83B01C47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D0B-3E93-4BE7-AF0B-0F53843A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EE7-F195-4991-BFDB-49AC77EB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1C5-7D42-4802-BB2F-C101FA1D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F29-6CE0-4121-B7D7-EF55F43F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A4E-0D77-4DA8-AB6F-D30C5F93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114-5992-4EF4-87B3-4E4D90C4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5593-4729-40C4-80A1-14214ACBD9F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祂是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主 祂是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已從死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裏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復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祂是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萬膝要跪拜 萬口要承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基督是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Jeff Xiang</cp:lastModifiedBy>
  <dcterms:modified xsi:type="dcterms:W3CDTF">2021-03-01T17:03:02Z</dcterms:modified>
  <cp:revision>54</cp:revision>
  <dc:subject/>
  <dc:title>PowerPoint 簡報</dc:title>
</cp:coreProperties>
</file>