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B8E-D5DD-4F88-BC2E-3326026C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140-9566-42F8-83F0-61BA611E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D50-0D85-4B8C-8F01-A8222358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4B6-9389-4B80-B9F2-570FD1E5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117-E4B6-4BBD-B516-6062364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A60-50C2-4B1B-97D8-544B176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1FC-E5DE-4DEA-AA4D-992D0C46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C7F-E2D9-478A-88DE-03B186EA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B92-A70C-4245-A375-BE5B0AA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501-4D12-4D49-8666-BF011841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CC2-47DB-4748-A87C-DB708BE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617-5E9C-4467-B099-26150D7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CA7C-6FF6-4727-BF4A-A52D8FEBD4A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如鹿切慕溪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神啊 我的心切慕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鹿切慕溪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你是我心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渴慕來敬拜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的力量盾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單單降服於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你是我心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渴慕來敬拜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9:34Z</dcterms:modified>
  <cp:revision>58</cp:revision>
  <dc:subject/>
  <dc:title>PowerPoint 簡報</dc:title>
</cp:coreProperties>
</file>