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E97-F2E7-42C9-A6F3-8EE7C397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D29-AA13-42C6-A065-96723881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87B-BEF6-4D4F-8B4B-F535037E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EFA-9A70-4A0A-8C2C-13E23E10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B53-E115-4A10-A961-98A7831E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534-3F74-4675-9E7E-8E22686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940-B08B-45B7-B828-F2502938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79C-1FAD-49C5-8FDD-3002A7BA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DE9-267E-4B39-AA8C-7AFCC5F9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7F7-CE77-470F-A51B-DCA6DC0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3FD-5204-4724-851C-315DF9D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29B-FD08-4820-8E33-D2C212B8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9BF-07F1-4E81-99D0-063156D996C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我魂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我魂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容我投你懷中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波濤滾滾浩無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風雷一片破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藏我在此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此風濤漸停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引我平安入天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至終接納我靈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外別無避難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賴救主保護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勿遺我致孤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仍舊扶持賜平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惟有主可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力全由主所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憐我身無蔭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主在上常覆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需全在主身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得過於我所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仆蒙扶起弱蒙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病蒙醫治瞽蒙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名至義至聖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無一善惟罪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虛偽惡遍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恩寵真理主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恩典真無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恩能掩我惡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醫病恩泉望湧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保我心清無惡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主就是生命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盡量飲活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主在我心湧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直湧到永生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7:15Z</dcterms:modified>
  <cp:revision>25</cp:revision>
  <dc:subject/>
  <dc:title>PowerPoint 簡報</dc:title>
</cp:coreProperties>
</file>