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11B-A8EC-4005-8AD0-8F4FC296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AAB-9D51-4F86-8ACD-726E9357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1D3-7744-49B3-9221-0BEB9800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E5F-F660-4B0D-89EB-94DF7A0A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FFF-3214-4543-B704-DA62D4B9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822-A543-4E8E-A549-4D677974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56A-0FA5-468A-A3B2-5E8A65A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527-CA2D-43FE-9791-AF337090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0AA-81C6-444D-81BC-90A50D6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1E7-EEB1-4A4C-A64A-FD27C71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DD7-5EFA-4100-A1E3-0D9D7937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080-F338-473D-9901-4BE63C1E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5DD9-BB22-4864-AF0C-BC2D1333846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與你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永遠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信與你成一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你包羅萬有的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和非受造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蒙愛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恩成為你一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同為父的後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作聖靈的房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化身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奧秘的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誕生與你連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一同客此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受膏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得聖靈的能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復一日時復一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作不稍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被棄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經過審判和咒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同你向罪而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勝凶惡的陰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復活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脫離墳墓的埋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更生同你更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你逐日結義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升天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登寶座來管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權柄我也掌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我和你同位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再來之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得榮耀同臨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都要顯你殊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你合一無已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5:21Z</dcterms:modified>
  <cp:revision>46</cp:revision>
  <dc:subject/>
  <dc:title>PowerPoint 簡報</dc:title>
</cp:coreProperties>
</file>