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A9C-51EF-4F73-AFAA-F42DE307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080-2483-42B7-9333-044BC203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44E-FD43-4237-8010-0273280B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900-1631-43AA-ABB6-48614034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888-04F2-4962-B5F2-39DCA9F3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270-23A5-4F94-A65E-495111B4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9E4-1F4E-4D39-863D-BBD3FB06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9FE2-1796-4525-939A-7A15E61E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0C7-784D-490A-9939-5B83F425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A31-B431-4707-B4F7-FC9267D0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C8D-D8B4-450B-B3AD-AC072E14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32F-FB9B-4B30-9063-CE00DAC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F996-6A1D-4CD1-B546-9CD81D86A73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主啊我深愛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甚願我永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居我靈裡永不分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我是永遠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已先愛我 為我捨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天我還有誰在地亦無所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願掬我衷情傾於主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我是永遠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已先愛我 為我捨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金銀還有千萬聲譽可遍塵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旦若失了你我心何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我是永遠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已先愛我 為我捨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除你別無所求惟你能解我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人都難久靠你愛無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我深愛你我是永遠屬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已先愛我 為我捨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2:52Z</dcterms:modified>
  <cp:revision>13</cp:revision>
  <dc:subject/>
  <dc:title>PowerPoint 簡報</dc:title>
</cp:coreProperties>
</file>