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29D-AD97-434F-A410-1A8EDECE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8B3-D6C3-4EEF-8790-E50B8183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4AA-18FB-4E87-9E3A-75BF4D24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63C-0AB2-44DE-9FB9-51B8207B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C06-46A8-41BF-BFF0-19ABD4F1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409-EAB4-42BF-A1D2-1B245706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59C-1FBD-4896-A655-9C7318B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E23-9DE1-4177-8C44-CCA7AE33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BFB-315F-48EC-B811-6F149BDC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A80-3D53-479B-A776-1F025AB3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7F5-8167-4F4E-9BB7-123ABDE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204-FE2C-4A3F-A556-7D62CEE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F387-DB0E-4E69-87F5-486C6B3B9BD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願愛你更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主聽此求懇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成此心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真是切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前我追求幸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平安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只尋求基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解我乾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惟獨切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愛你更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9:20Z</dcterms:modified>
  <cp:revision>30</cp:revision>
  <dc:subject/>
  <dc:title>PowerPoint 簡報</dc:title>
</cp:coreProperties>
</file>