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FA1-E3C7-40EB-8E07-EFC23EDF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C0F-5AF5-431B-9C79-A8AAE60E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CFD-5B40-4745-8CDC-A3CC15EE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045-4F34-431A-9AF8-39D38EC4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5B3-E45D-49F4-88FE-D0770543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0EB8-D4D8-451D-9DF7-D9876D48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129-36D8-465A-A17B-24C44EF8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648-EE7C-4A2A-B821-A693CDBF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2B8-1A70-4E1E-9ED5-76EC34C4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3E8-7692-4C9D-930D-05772A58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56A-7802-4E8A-ABF6-993339CF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9E5-E676-4544-8AF9-AF4C9EBF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0297-7DCA-4414-A359-683CB17F400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靈裏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上與主同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葬且同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今一同升到天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活著不再是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住裡面佔領一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看主所看說主所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主所求作主所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是自己努力掙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主裡面動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是自己模倣基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主裡面長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住裡面變化一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主所愛樂主所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憂主所憂負主所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心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是自己想做什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願主旨成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是自己奢望什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願主話成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住裡面實現一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聽主所許信主所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主所許望主所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話必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與世人同負一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樂在主內同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是自己單獨追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也愛彼此建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住裡面聯絡一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同心合意恆切禱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靈裡合一愛裡同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內一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31:19Z</dcterms:modified>
  <cp:revision>63</cp:revision>
  <dc:subject/>
  <dc:title>PowerPoint 簡報</dc:title>
</cp:coreProperties>
</file>