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CFF-CA0E-486A-A044-7C2DAC7D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733-D65A-45D8-8128-CE24D8D7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7E9-772A-44FB-A11E-5905561A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96C-C2D4-4DB0-997C-4CDDC8D9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F60-F6EF-4250-9C57-9DFB383E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EAB-F913-42E3-8A4D-EFE16D07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965-33AF-4914-AD42-2C8B64AE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6E7-4034-4462-81F6-8119383F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A9F-7E97-4F2E-909E-857B6D7C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44E-406B-4ACE-A57F-CF560AE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4B4-56DF-4BE7-849F-46E48FA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A42-7D15-433E-BA94-F40EC627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39BB-7039-4D1E-9226-3A72363746C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是誰 安渡約旦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死亡的拘禁亦已被衝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聚彼岸唱新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乃是自幼篤信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捨棄諸福樂 緊隨祂腳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罪蒙赦免身得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乃是不顧得與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隨地成戲景 到處受藐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心中仍能湧美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乃是忠心直到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求主笑容 湯火都不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經苦難仍堅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驅直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耶路撒冷光明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些人乃是世界不配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補滿主患難 工作已告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繞主前到永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有羔羊血洗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5:01Z</dcterms:modified>
  <cp:revision>45</cp:revision>
  <dc:subject/>
  <dc:title>PowerPoint 簡報</dc:title>
</cp:coreProperties>
</file>