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C8F-8701-4880-9301-43A3D7C5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F5B-41B8-429D-85D5-4E4AD321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C0A-0D35-4068-8EC3-20B3187A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A9A-E1E0-49FF-88CA-515F7842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A2C-945B-4607-BE3D-11FF6F75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04F-E735-49F7-A506-F8C1B05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CD8-E71E-4D7B-9E90-315596F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DDB-7E75-4051-9906-B794F83E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637-FEE3-42D1-9C56-3CA27471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89E-D534-40B1-AD67-81E7D06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D67-7A41-484E-80C7-6C40C7D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932-BD62-4ABE-85A8-29D16A19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CA8A-CDF8-4F5B-AA43-D1032DD1402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有一位好朋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有一位好朋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非常寶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愛我如此溫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非常甜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叫我說祂的奇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祂受死經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如此常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告我以祂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離此並不太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心切望能夠儘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把我帶到那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終幸福喜樂在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還有榮耀寶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久我們同作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不能活無祂之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祂的提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們就同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時我幾乎臥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的軟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祂叫我向祂倚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樂受祂扶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走光明途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過光明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們就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愛祂幾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愛淺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祂是用何愛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永不能說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一愛永遠不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越過越像熱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彼此就相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告祂以我痛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告祂以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告祂以我所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告祂以我刺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告我以所當策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告我以所當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彼此吐心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心真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救一個靈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就叫我為祂外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去報愛的新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9:53Z</dcterms:modified>
  <cp:revision>31</cp:revision>
  <dc:subject/>
  <dc:title>PowerPoint 簡報</dc:title>
</cp:coreProperties>
</file>