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118-8C1D-4EC9-80B6-32661EB1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95E-227C-4334-A8E2-CCF2899E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EE4-B109-4362-A5A4-B0132B81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735-9E20-4D92-9173-86F19A82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C5B-9EE1-4450-8198-FF827D1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632-E12A-42BA-BA83-158EB9F2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087-C66B-4054-BC9A-AD254A19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74B-103B-4B66-826B-9B5A202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83B-2580-41DE-9955-6623AB4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6C8-A52E-407F-8896-F9C02C4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799-6E8A-4199-A606-CF4F9FDD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919-E2F6-45C0-A655-0C2AA67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D410-EED6-415C-AFA2-FAB674C8479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願你為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信條 話語 虛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屬人的會 屬世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能與你相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征服了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靠你十架 我向己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完全為你而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全人被你充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思想像你思想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喜歡像你喜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把我改變全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穿這幔子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軟弱肉體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顯出你的榮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願你為大 哦 主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真是要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作你奴僕 行你旨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一生不再自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6:56Z</dcterms:modified>
  <cp:revision>24</cp:revision>
  <dc:subject/>
  <dc:title>PowerPoint 簡報</dc:title>
</cp:coreProperties>
</file>