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E5C-F0D3-4C6B-97CA-1186B268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DD7-3F61-4204-ABC5-FA2AD4BD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778-F1B7-4602-B7B9-AB36318B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61C-9418-4F3D-801E-1EEB1624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5E7-BFF4-4645-A51A-9A65ED88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E51-F5CC-4069-8706-CAF8E367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0FD-C420-4737-948D-A7679F38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71D-2E2E-4E95-A126-3C466506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5CB-3D28-4F21-8BD8-03EF330D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100-17BA-437E-BA2E-9BCA9707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151-4018-4BE3-A344-C931BFA4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CB8-D43E-4B09-929B-E1C3D5E4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5A9B-E8C0-4823-8ECF-FA6D5A701DE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等候耶和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等候耶和華的 必從新得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等候耶和華的 必從新得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他們必如鷹展翅上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他們奔跑卻不困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行走卻不疲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8:55Z</dcterms:modified>
  <cp:revision>56</cp:revision>
  <dc:subject/>
  <dc:title>PowerPoint 簡報</dc:title>
</cp:coreProperties>
</file>