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DD1-7C19-4DCE-945B-B3FED7A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21D-97DB-49CB-849E-A300218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CCD-0034-4B78-865C-4AA33E0A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4AC-A9B6-4312-B44D-1CB1B46B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4F2-3CC7-47E2-BC7E-49CE694B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CBE-422B-4635-BDEF-0F07C4B5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6B9-56F7-45A5-8344-BAD52D4F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EC4-63F2-41C6-B837-2C96C2C9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8E3-E1F4-488B-B094-748631DE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0DE-A097-4FA1-8B12-FA432442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192-9027-458D-A780-CFAED3A5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6F5-E677-4CD0-AE2E-646B386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9C36-122A-4357-A080-89FE817F111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每時刻要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救主恩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誰有柔聲似你 足慰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與我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魔鬼若來試探 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或憂或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若不來同居 我就枉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賜我恩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主寶貝應許 於我成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主旨遵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天查考聖經 到主再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4:07Z</dcterms:modified>
  <cp:revision>16</cp:revision>
  <dc:subject/>
  <dc:title>PowerPoint 簡報</dc:title>
</cp:coreProperties>
</file>