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8FBA-B796-4031-88D4-6331FBAD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72B-73B4-429A-AC14-3F865F04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F00-A00B-4540-B1EB-C78F3131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CEE-9544-4672-AFED-8D1F7116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294-F278-4095-B280-C8AAB028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974-CB0F-4339-9C10-08F16B2F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4EC6-AB8D-4624-9DE0-7685F3C6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9A4-D9F4-4690-B0AC-C746A238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6A8-8EC3-47D2-AC22-3D3A8507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7186-21EB-45A5-B9A0-15C5D73D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D36-1E9F-4385-B520-1ABADA9D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3641-4469-4190-867A-CB032478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CC80-885A-4A6C-B706-0CE8EDFDAD0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你名似膏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名似膏香 你愛比酒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若來吸引 有誰不跟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若跟隨羊群的腳蹤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必進入你愛的交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我良人 我是祂佳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將我吸引 我將祂追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香如沒藥 我願藏心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美似鳳仙 我願戴身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進入祂愛裡 享受祂肥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躺在祂懷中 飽嘗祂香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愛為旌旗 將我身遮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情似美物 使我心舒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良人屬於我 我也屬於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牧養者 我是百合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願天快曙 黑影全飛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見祂如朝鹿 顯在比特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同死的沒藥 復活的乳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將我薰透 好給祂欣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北風阿興起 南風阿吹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使我心園 成為祂心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在祂眼中 美麗如良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在祂面前 皎潔似百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全屬祂 作祂樂中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祂全屬我 是我歌中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7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美麗如月亮 得有祂形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光明似太陽 得有祂身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屬我良人 使祂被顯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為我良人 使祂心舒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8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我生命 我是你活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情的聯結 如死之堅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何能消滅 無何能替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你顯現 在那香草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6:09Z</dcterms:modified>
  <cp:revision>22</cp:revision>
  <dc:subject/>
  <dc:title>PowerPoint 簡報</dc:title>
</cp:coreProperties>
</file>