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AF4-DE6D-4A3F-9158-D62A2C65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62B-E370-4E56-874F-CB329E9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562-B4DB-4983-8284-A4E24B62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163-57F0-49DA-88B9-8404C523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E61-6DFC-400B-858E-E3EFCBCA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5A5-E069-4FB0-B9C5-26BA990A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E24-B239-4B11-AE8B-D67E2BA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541-61B2-4E00-A2AA-B28C570A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8F4-740F-43B8-B5CE-DE709B73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93F-42DD-4D11-8493-1A54FFEA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EEB-24AE-4856-B768-0DD08BC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89-80AF-4F06-9D64-3A40128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F497-60C6-42DA-BDF4-0B759889BF0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居在主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在主裡何等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然信靠滿足由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在受死主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發慈聲藉祂話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之福天賜厚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賜平安非世能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此盼望我魂安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3048120" y="2967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副歌</a:t>
            </a: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居主裡 居主裡 喔 何等甘甜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我安息 安息在救主腳前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活著非我乃祂活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能工作祂親自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向己死向祂而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看萬事損安息惟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安息救恩已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神兒子我蒙拯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竭我力魂對世盡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平安喜樂融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主裡 居主裡 喔 何等甘甜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安息 安息在救主腳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0:10Z</dcterms:modified>
  <cp:revision>7</cp:revision>
  <dc:subject/>
  <dc:title>PowerPoint 簡報</dc:title>
</cp:coreProperties>
</file>