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CDD-860D-41BB-B3E0-26E33CB3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6C2-A11E-459D-A183-A203D626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6EE-03D3-4DB0-A849-B33116DF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00A-C9C1-46A0-8155-F5956B27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C2D-A819-46D5-B9AE-73A985D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FC5-A218-4807-97AC-497998C4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A2C-B2E0-4131-9829-95F5336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A20-F042-4B15-B4C2-E2299ADA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D20-E785-4EBC-A652-17417DD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C08-EBDF-4E61-BF7E-2F2D1C0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EC2-037D-4E1D-9FF3-66F9993D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BDF-4258-44AF-AC31-EE95272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02E3-54F8-4D17-B015-BA300AEE8BE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進入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幔內 如今我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至聖所在 瞻仰我主榮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榮美彰顯 無一能夠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敬拜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9:15Z</dcterms:modified>
  <cp:revision>57</cp:revision>
  <dc:subject/>
  <dc:title>PowerPoint 簡報</dc:title>
</cp:coreProperties>
</file>