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665-A3DF-4B70-B974-2CA43264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AD0-3831-44B7-BE3A-3737826A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7C2-5A0B-4FD9-8BCB-01BCD660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E69-053D-4E14-AE64-9F094E8B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B55-2930-45D0-A667-EBF50BD4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7C9-4666-490C-A482-43DB97EA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71C-E5D2-49B8-9B79-0F3AD27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A97-2E2A-488B-A614-9CB6DF7D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B67-5BE1-40BC-86EA-19D9F8A2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E3A-F224-4D87-9FE9-EEA9DFA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1D0-03B8-4C37-931A-5BE228E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DEB-C677-4E18-8827-BEF7C861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4236-874B-46C8-88B8-C7B52497657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我的良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下到谷中 行在百合花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已看清我良人的腳蹤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救主 我愛 我急速跟你前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陣陣輕風 都訴你寶貴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我良人 主 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頌之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曾為我流血捨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豈不知 啊 我正在尋找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請快告訴我 你腳蹤何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晌午你在何處與羊群同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傍泉可安息 炎陽有蔭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我良人 主 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頌之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曾為我流血捨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今行近你 啊 最可愛救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榮美吸我 常住你愛裡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莫向我心掩面 因它崇拜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曾尋我 稱我你的鴿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我良人 主 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頌之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曾為我流血捨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聲音 比眾天使更柔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的笑容 比嬌陽更明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輕輕帶我來 向你懷中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你可愛極 使我傾心欲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啊 我良人 主 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可頌之神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曾為我流血捨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10:29Z</dcterms:modified>
  <cp:revision>8</cp:revision>
  <dc:subject/>
  <dc:title>PowerPoint 簡報</dc:title>
</cp:coreProperties>
</file>