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D79-A949-47E7-AA7F-E4300C59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08D-25E4-4B9D-9293-65621D35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837-EEAA-44F6-A3AC-14BC507E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DC1-49A8-45E3-9A1C-0FE2D284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02A-B864-4BBD-9BD5-56B77B3D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C68-DCE5-4EC0-B1CA-C87BD460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0DE-A1C9-4A3B-8774-BA8353B6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5CA-96E9-449F-82C1-9E0F7CA8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92E-6A11-4448-B3E9-8F74B996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961-58B5-40C4-9531-7DD88066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4B8-79BD-4C92-9CFD-5BBD4AD9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47A-7784-4603-ACCB-18EEAA10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729D-FC65-4103-8054-92EC4AB6894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快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真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真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真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口唱哈里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真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聖靈充滿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聖靈充滿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聖靈充滿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口唱哈里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真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拯救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拯救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拯救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口唱哈里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拯救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釋放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釋放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釋放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口唱哈里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釋放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哈哈 哈哈哈哈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哈哈 哈哈哈哈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哈哈 哈哈哈哈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哈哈哈哈哈哈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哈哈哈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37:15Z</dcterms:created>
  <dc:creator>陳建中</dc:creator>
  <dc:description/>
  <dc:language>en-US</dc:language>
  <cp:lastModifiedBy>陳建中</cp:lastModifiedBy>
  <dcterms:modified xsi:type="dcterms:W3CDTF">2016-06-08T16:39:08Z</dcterms:modified>
  <cp:revision>5</cp:revision>
  <dc:subject/>
  <dc:title>PowerPoint 簡報</dc:title>
</cp:coreProperties>
</file>