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71B-846C-493E-93C1-BF8EE228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3D8-0F08-444E-911A-E8AD3530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56B-2652-4273-B874-2E859393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1AD-A4D1-4D78-A610-6D568390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915-94CD-46AE-A6DA-1D13DAC3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20A-D676-4A56-8F62-ABD36736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753-DC8A-4319-BBFA-6293005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B0F-A5CF-43D3-A108-27B3A399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530-5F82-44F6-82FD-F7D01BB9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105-C153-4C60-BF32-C13E4719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D0A-F332-42D7-8AD0-969E351D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E6E-ECD8-4ED9-AF07-E1BB5EE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A71-F923-4699-9760-B65C9339FB2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輕視我事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像你如此美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此甘甜如此柔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人中無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誰能與你相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聽見你招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聲音入我心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就脫離所有纏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驕傲都歸虛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追求都變庸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怎能再頑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將剛硬投你腳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首詩歌回家去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喜作你奴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喜向你屈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揀選你道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面順服一面流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我不肯改變地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討你喜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羨慕愛的暴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從你去天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臉好像不能再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天好像不能再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只想你回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只想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來向你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所朝夕思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有你能使我滿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你甚麼都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外無所要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奉獻我事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像你如此美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此甘甜如此柔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人中無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誰能與你相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2:18Z</dcterms:modified>
  <cp:revision>38</cp:revision>
  <dc:subject/>
  <dc:title>PowerPoint 簡報</dc:title>
</cp:coreProperties>
</file>