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C2E-9424-4E8E-A0CD-F2B9B5BA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AA9-3776-49FD-A2AE-F577EB95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9FEF-6965-4D11-8FE8-625BDE73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96F-A3E4-4EB0-8F16-0ED321A8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A3E-1BD8-4480-BA01-6D076F24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A0F-4851-4C84-BD72-D1AD17DB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A39A-69A9-4986-B55C-597E6AA4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278-0359-4812-944A-CBF90546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F206-F05F-4C8C-9491-C0FAD68F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C88-DEFC-4DD4-B7D4-99C2C24C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7D2-9266-4409-802F-95C1002E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9B9-8306-4392-A13A-25D52197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CBD4-0A9A-4938-9270-7E78EC8551A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要存稱謝的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存稱謝的心進入祂的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存讚美進入祂的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述說這是神所定的日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歡呼因祂使我喜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使我喜樂 祂使我喜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歡呼因祂使我喜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使我喜樂 祂使我喜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歡呼因祂使我喜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1:11Z</dcterms:modified>
  <cp:revision>35</cp:revision>
  <dc:subject/>
  <dc:title>PowerPoint 簡報</dc:title>
</cp:coreProperties>
</file>