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C68-B7F4-48DC-B874-45A1A5B2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986-E3EA-49A8-8C7A-F05417FB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363-4D4E-4BB0-85D4-8A724E39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736-598D-4941-BED3-55280944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D60-17C7-40EF-87DB-D099718F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CE1-4E70-4F22-8060-4E9DB9E4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3C2-F753-4BE6-8AE5-D2A6070C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CCC-F6E9-450E-BC34-7F3C1935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2BC-6556-436C-984E-3E009E8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0BF-C1CB-4AF1-98A9-E92AD3B1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9BA-BC3F-4CD4-8C50-AB4D367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593-A26B-420C-8B87-69EFD754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B196-9F26-4A5B-9657-75C1C7D7F86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玉漏沙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玉漏沙殘時將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國即將破曉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所慕晨曦即降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甘甜加上奇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見祂賜的冠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看祂手創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羔羊榮耀今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雖經黑暗四圍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晨光今已四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榮耀今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基督你是泉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源深甘愛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既淺嘗此泉於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定必暢飲於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裏主愛直擴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猶如海洋湧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榮耀今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以憐憫和審判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織成我的年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憂傷的淚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也帶愛的光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領我手段何巧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計畫何純正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榮耀今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哦我是屬我良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良人也屬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帶我這卑賤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入祂的快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時我無他靠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靠救主功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前來榮耀所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以馬內利之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新婦不看她衣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看所愛新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也不看我榮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只是瞻仰我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24:41Z</dcterms:modified>
  <cp:revision>44</cp:revision>
  <dc:subject/>
  <dc:title>PowerPoint 簡報</dc:title>
</cp:coreProperties>
</file>