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1E6-08BC-480E-8FAA-D1250B46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427-5D63-4853-8703-5AE8A06C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4EC-4C73-4080-8869-9E4742A2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17A-59D3-4E40-98DC-ABA73468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BA9-E4A3-4221-912D-38055BE1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F54-1E10-455C-A6D3-20344F07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A2F-7B8F-4CD1-959A-E7EA5EC7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20E-802B-4803-A99A-F4EE6707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E69-FAF7-4567-8BF3-2C6FAD8A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BC7-5A4C-4B30-8FB7-23E9ED6D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7BF-55A6-41F2-95FC-69BDC536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58C-1FDF-47F8-865E-859E1BA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C2E6-08B6-44EA-8C8D-6F1AADC4DDC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信心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門徒在世仇敵甚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致攻擊主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內有情慾外有邪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還有害人風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切得勝仇敵之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都穿白衣在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使面前盡都知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軍俱來歡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努力行走光明之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火挑旺在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勝所有黑暗魔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靠耶穌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呵 奇妙的大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可勝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抵擋眾惡總要發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讓魔鬼一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雖無力自己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勝在主救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呵 奇妙的大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可勝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之仁愛為我大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寶劍即是神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古今聖徒都因相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高唱得勝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勇猛好像旋風騰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得勝一切戰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此籐牌得勝死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生活安然而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呵 奇妙的大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可勝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四周都有仇敵圍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預備向我攻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要安居在帳棚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應到戰爭之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恩頭盔保我無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腰束真道不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地球好像搖動懼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影響遍及環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使我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呵 奇妙的大得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心可勝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32:28Z</dcterms:modified>
  <cp:revision>64</cp:revision>
  <dc:subject/>
  <dc:title>PowerPoint 簡報</dc:title>
</cp:coreProperties>
</file>