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5CB-A130-432C-BD4F-AB078386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7332-CCFA-4EC0-9268-7178E30B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6D4-7821-4B5D-8962-6B0A4284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9E47-28E4-4EC2-B346-66F53EE0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C7D-9485-4B5C-A3D2-44A1D649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F87-AEFB-4550-9116-77E937A3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EAC-0575-4701-816C-F8DA07D3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994-EC3E-409A-A0CF-5CE9AC45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1D4-EE8B-43E6-B100-CC358DCA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800-A4FD-4F3F-8222-E3D0FE00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1B5-20F0-465F-957F-F60F5DB1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B90-ECB4-4297-A9E9-FC8A6EBB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41A2-F9EE-40CA-9B8F-7B43DCAAFEA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BiauKai"/>
                <a:ea typeface="BiauKai"/>
              </a:rPr>
              <a:t>是愛的神作我牧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iauKai"/>
                <a:ea typeface="BiauKai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是愛的神作我牧人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祂常餵養</a:t>
            </a:r>
            <a:r>
              <a:rPr b="1" lang="zh-CN" sz="6000" spc="-1" strike="noStrike">
                <a:solidFill>
                  <a:srgbClr val="ffffff"/>
                </a:solidFill>
                <a:latin typeface="BiauKai"/>
                <a:ea typeface="BiauKai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祂常施恩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祂是屬我</a:t>
            </a:r>
            <a:r>
              <a:rPr b="1" lang="zh-CN" sz="6000" spc="-1" strike="noStrike">
                <a:solidFill>
                  <a:srgbClr val="ffffff"/>
                </a:solidFill>
                <a:latin typeface="BiauKai"/>
                <a:ea typeface="BiauKai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我是屬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何來需要</a:t>
            </a:r>
            <a:r>
              <a:rPr b="1" lang="zh-CN" sz="6000" spc="-1" strike="noStrike">
                <a:solidFill>
                  <a:srgbClr val="ffffff"/>
                </a:solidFill>
                <a:latin typeface="BiauKai"/>
                <a:ea typeface="BiauKai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何來缺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iauKai"/>
                <a:ea typeface="BiauKai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祂帶我到嫩草地場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使我感覺滿足歡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又帶我到平靜溪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交通不斷 安息無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iauKai"/>
                <a:ea typeface="BiauKai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我時迷路 祂來截回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再側我心受祂支配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我常搖動</a:t>
            </a:r>
            <a:r>
              <a:rPr b="1" lang="zh-CN" sz="6000" spc="-1" strike="noStrike">
                <a:solidFill>
                  <a:srgbClr val="ffffff"/>
                </a:solidFill>
                <a:latin typeface="BiauKai"/>
                <a:ea typeface="BiauKai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不甚堅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祂引導我 是為祂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iauKai"/>
                <a:ea typeface="BiauKai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何等不明 何等可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怎能行走無所顧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BiauKai"/>
                <a:ea typeface="BiauKai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竿扶持</a:t>
            </a:r>
            <a:r>
              <a:rPr b="1" lang="en-US" sz="6000" spc="-1" strike="noStrike">
                <a:solidFill>
                  <a:srgbClr val="ffffff"/>
                </a:solidFill>
                <a:latin typeface="BiauKai"/>
                <a:ea typeface="BiauKai"/>
              </a:rPr>
              <a:t> </a:t>
            </a:r>
            <a:r>
              <a:rPr b="1" lang="zh-TW" sz="5400" spc="-1" strike="noStrike">
                <a:solidFill>
                  <a:srgbClr val="ffffff"/>
                </a:solidFill>
                <a:latin typeface="BiauKai"/>
                <a:ea typeface="BiauKai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杖引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BiauKai"/>
                <a:ea typeface="BiauKai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的同在 滿我途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iauKai"/>
                <a:ea typeface="BiauKai"/>
              </a:rPr>
              <a:t>5.</a:t>
            </a:r>
            <a:r>
              <a:rPr b="1" lang="zh-TW" sz="5400" spc="-1" strike="noStrike">
                <a:solidFill>
                  <a:srgbClr val="ffffff"/>
                </a:solidFill>
                <a:latin typeface="BiauKai"/>
                <a:ea typeface="BiauKai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使我能大膽誇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敵雖四佈 享恩如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我頭油潤 我杯酒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我神從來不曾吝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iauKai"/>
                <a:ea typeface="BiauKai"/>
              </a:rPr>
              <a:t>6.</a:t>
            </a:r>
            <a:r>
              <a:rPr b="1" lang="zh-TW" sz="5400" spc="-1" strike="noStrike">
                <a:solidFill>
                  <a:srgbClr val="ffffff"/>
                </a:solidFill>
                <a:latin typeface="BiauKai"/>
                <a:ea typeface="BiauKai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的甘甜奇妙的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測量我的一生年代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BiauKai"/>
                <a:ea typeface="BiauKai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愛既然永不改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BiauKai"/>
                <a:ea typeface="BiauKai"/>
              </a:rPr>
              <a:t>我的讚美還要加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Jeff Xiang</cp:lastModifiedBy>
  <dcterms:modified xsi:type="dcterms:W3CDTF">2021-08-14T19:54:32Z</dcterms:modified>
  <cp:revision>48</cp:revision>
  <dc:subject/>
  <dc:title>PowerPoint 簡報</dc:title>
</cp:coreProperties>
</file>