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1220-CDD3-4C0D-AB0B-B30E5360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CA4-73BF-443A-91D5-1898E944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28B-19C3-4401-A201-31E000ED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8EB-8D62-4133-A625-827E7C3C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AE6-28DF-4537-8892-47C954A8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C39-9E92-4A68-9273-1698D10C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9EF-7A6F-4771-A82B-9FF597E0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BB1-4009-4978-B54B-2485851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9A1-C568-4D9B-BD3B-D7786F0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716-BEDA-4892-915B-D4EA011E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1A1-1B90-419D-A219-B746ADF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DFF-678F-4EEC-9C56-9311C2AA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24D-011D-4BA8-B05C-6B31BD80664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聆聽祂奇妙恩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喜樂見祂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逐日更愛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回想走過的路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以恩典為我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贏得我心與我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世上諸福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卸下勞苦重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祂胸懷享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敬拜喜笑滿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陳明心意達天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祂豐滿我今領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上加恩往天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當我這樣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新得力何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裂天而降賜我恩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渴望常見你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用水藉道來潔淨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思像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好使別人能夠看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曾跟過復活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8:52Z</dcterms:modified>
  <cp:revision>4</cp:revision>
  <dc:subject/>
  <dc:title>PowerPoint 簡報</dc:title>
</cp:coreProperties>
</file>