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C61-31C8-490F-B0DC-7756D217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B4C-5D3B-4E74-8720-24E598A6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02C-C55D-4509-A5C7-97482EF1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5D4-9AB3-41F0-8344-2ED6480F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118-B12D-4DBE-99D4-7D3013F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36C-B1CE-465B-BA3A-3EDFDE63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05D-8595-4CA7-8782-50B81797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73A-5B9B-49D5-8AF8-7153FB5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7D7-784E-4AA0-B716-329A7A06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97F-7617-4BDD-A4C5-D8652DE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27A-E2C3-4CE8-81F0-B772559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7CB-0909-4BF7-AD5F-F7675E76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CA5-0B89-41BD-B17E-B80D4157730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哦主耶穌每想到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主耶穌 每想到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便覺甘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願我能立刻被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到你可愛身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上並無一個妙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把你恩盡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人間也無一顆情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能把你愛全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但那最能使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尚非你愛你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乃是你的可愛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最滿我情我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比美者還要更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比甜者更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外在天我心何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地我心何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你如一棵美麗鳳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在山野葡萄園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殊姿超群秀色獨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依依戀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8:55Z</dcterms:modified>
  <cp:revision>29</cp:revision>
  <dc:subject/>
  <dc:title>PowerPoint 簡報</dc:title>
</cp:coreProperties>
</file>