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08D-055B-4CBC-908D-D6F0D3E6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D99-2794-476D-AA05-3874444A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26A-3526-4E3C-AB9F-322FE169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876-10E5-40F2-A384-2E5F8AA2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816-E2B8-4D63-A01F-2600714C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041-087E-402C-95C5-CEF055DA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934-7B77-417E-BB5B-280BA798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CD5F-3F99-4F5D-9C6D-EB7B2556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F31C-17D6-4BE2-B28E-50154A9F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940-5F80-464B-AC31-1F6B92FC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F033-4C13-478F-AC81-B3577E81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D4C-94AE-4A44-B2F1-0DB3761A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6BBC-C8F1-40EB-95E5-154C509D835A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十架永遠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十架永遠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十架將敵除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陰府雖然兇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世界雖然翻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肉體雖然還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十架使我仍誇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基督十架永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仗主十架我誇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十架是我生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十架賜我權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過人情自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過世界勢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過一切仇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十架使我勝無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基督十架永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仗主十架我誇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十架是我旌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永遠舉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軟弱變為剛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下沉變為高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黑暗變為明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十架使我得釋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基督十架永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仗主十架我誇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15:10Z</dcterms:modified>
  <cp:revision>19</cp:revision>
  <dc:subject/>
  <dc:title>PowerPoint 簡報</dc:title>
</cp:coreProperties>
</file>