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ACC-69FC-49DA-A25C-097767C5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4C6-DDB4-4B21-B834-FEA8990F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DE9-5ABA-4D89-A90E-80E52104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D8F-3968-4D81-8A19-BB8BAB27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1D2-23E5-46C3-87F5-54A633AF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37B-F3CE-4F0E-9AE8-BA04358A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8D0-7342-4BDC-9C15-E3AB07E6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BF3-BED1-4D30-B9D3-D9DAA22C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9B5-FED7-4546-9385-A8ADEC70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C62-4DE2-4EFF-8B82-6C3F8A87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4A7-604A-4F51-9610-F8381FC8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3E5-EAE9-436E-9287-EA6676A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9730-C198-4376-8C7C-DDB7A8BE918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神聖膏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用喜樂油膏我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終日喜笑滿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這罪人何竟蒙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信靠祂話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我進入一切真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這真理聖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切慕日日懇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主同住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深處神子顯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情如死之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湧出美詞口唱心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永遠稱謝謳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8712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恩泉源近在咫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奇妙恍如夢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俯伏加略歡然取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福杯立時滿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還保留私懷愛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主心傷掩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丟棄萬事看作糞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晨星方見出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生命輪子昔曾脫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時常躊躇力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今晝夜活潑前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平安和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來 神聖膏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管治並運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你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全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上嘉賓翩然蒞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啟發愛主之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榮面忽然顯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引我來親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Jeff Xiang</cp:lastModifiedBy>
  <dcterms:modified xsi:type="dcterms:W3CDTF">2021-08-15T02:06:14Z</dcterms:modified>
  <cp:revision>4</cp:revision>
  <dc:subject/>
  <dc:title>PowerPoint 簡報</dc:title>
</cp:coreProperties>
</file>