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F659-333B-46CF-926B-DF5543D36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737B-3D52-42C6-B961-62055937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0AAB-7A93-483B-BA32-7B273CD4C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ACBA-F84C-45CC-B97F-8E2685D31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D08D-BFF8-448D-B266-267E36F0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8410-8B81-4E52-8239-7C869506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01E7-D809-4994-B7A3-D71FF037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6459-301F-45A9-A925-F94749FF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2574-8918-4B7A-B3C9-CCC7FB4A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22F4-EC14-4625-9E03-720A7243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6A3E-F202-40D5-90C1-0C51492A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ABCF-2978-4730-AA27-3E249D65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B9ED-47E4-4741-AD13-D75DE241B290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以愛為旗在我以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以愛為旗在我以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以愛為旗在我以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帶我進入祂的筵宴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並以愛為旗在我以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以愛 以愛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以愛為旗在我以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帶我進入祂的筵宴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並以愛為旗在我以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26:18Z</dcterms:modified>
  <cp:revision>48</cp:revision>
  <dc:subject/>
  <dc:title>PowerPoint 簡報</dc:title>
</cp:coreProperties>
</file>