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755-F893-4638-BF9F-7303D3E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94F-AF90-414B-9EAF-67B60EA5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EEC-74F9-4DF4-9131-21F3EB32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5CE-6ABB-4F6C-A921-74538C67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629-132F-44BF-B279-5494A387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1DD-A542-4C08-9643-09742B7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9E4-FF2A-47AA-A234-974126CF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7D0-5646-4512-8ED7-67457093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0A8-8732-443B-92C0-AC305955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3B7-C625-4D60-9993-E96F94A0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0C4-FCF9-4531-B43A-9265CB93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479-8FF8-4E34-B33F-7875043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5728-A54B-4204-9090-5AA184FC4A0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願我就近聖靈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願我就近聖靈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啊 願我來喝聖靈江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倚靠聖靈江河來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就近 願我來喝 願我來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8:37Z</dcterms:modified>
  <cp:revision>55</cp:revision>
  <dc:subject/>
  <dc:title>PowerPoint 簡報</dc:title>
</cp:coreProperties>
</file>