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DC4-C3A2-4B66-8158-887BD7CC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AD3-D32E-434F-816A-40119CE2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BCD-29DD-4673-95AC-A0D3D02A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4FA-4E90-4EE5-9602-A5510C64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F7A-9E21-47A3-8543-05B847B7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EDB-6442-47AB-A544-FB5DE719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AEB-CE1D-4A94-99AF-D3E0AB4E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C29-70E4-46C8-BBE5-BA3D0793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1A6-E33B-421D-8884-6A60A7FC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B9C-F63E-45ED-89A4-B1DE96EE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F03-65EE-455D-ABB7-6B913D78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163-EABD-4127-BBFC-78A8B719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FF41-89DD-4F61-8837-07FAACDADEC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祢</a:t>
            </a: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真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偉大的神 我每逢靜念默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1" lang="zh-CN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手所創 這偉大的世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見眾星 我聞那隆隆雷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1" lang="zh-CN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的權能 在全宇宙顯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我經過 綠蔭的樹林底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聽鳥兒 在那樹上鳴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我俯視 山澗的流水迴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微風迎面 拂拭我的衣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當我忖度 神不吝差遣愛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專為人死 實為人難體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十字架上 祂背負我的重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流血與水 解決我雙重罪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基督再臨 歡呼喝釆盈天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欲提我去 我心欣然歡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日我必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謙卑俯伏敬拜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並要宣揚 我主我神奇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歌頌 讚揚我主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何等偉大 何等偉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Jeff Xiang</cp:lastModifiedBy>
  <dcterms:modified xsi:type="dcterms:W3CDTF">2021-08-15T01:54:01Z</dcterms:modified>
  <cp:revision>3</cp:revision>
  <dc:subject/>
  <dc:title>PowerPoint 簡報</dc:title>
</cp:coreProperties>
</file>