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437-D74B-44A2-9716-040B11C5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675-7CB7-4003-AAA9-69C7B25D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FFE-4E4C-4F4A-8E11-D5151A97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8772-F6DB-4286-8024-26B15C72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7E5-A7C3-472F-BB7C-8FD26DD2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42C-8B8F-4B2C-93B2-74182675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2239-5774-499B-8E16-09DC8FA3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5574-4770-4AA9-A518-1079DB96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53C5-DAC2-48DC-83B2-AB29A261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68D-D055-4DD1-A945-23E14362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D57-F245-4914-8256-BC72BDF2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0A4-C3E5-4C1D-B28E-9F3FD125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3550-6634-4FFB-912F-948A2738386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敬拜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敬拜主 敬拜全能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能力 一切讚美都歸給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敬拜主 敬拜權柄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從祂寶座 能力流出 流到萬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高舉 一同高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耶穌聖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彰顯 一同彰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榮耀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敬拜主 敬拜尊貴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曾捨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今得榮耀 萬王之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28:20Z</dcterms:modified>
  <cp:revision>54</cp:revision>
  <dc:subject/>
  <dc:title>PowerPoint 簡報</dc:title>
</cp:coreProperties>
</file>