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5CB-4F9A-4A55-9BDA-1B8E30EA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8C1-99EE-4477-AB46-AF260359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657-5DD8-44FD-9101-08EEA414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18B-640A-4DF0-8D9D-842F7A93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B45-EF73-484F-A065-39D3BBC9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C37C-3ADF-4C52-B37E-C8776E9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65A-FD52-409E-8BF1-3ABE1382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E44-8369-4424-B159-95181F37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EC1-9544-4703-BB41-A887B9EC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EEE-B1B8-4756-9E3C-8FDEA6E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A46-73BF-4F4D-980B-FFD2A7C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1E7-1F58-469C-8362-3F48EAA6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0E5C-6ABB-40C1-9D66-24FF25628DF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生命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(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從我活出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......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你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對於我的所有問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以你為答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切事上能隨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不過是透明用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著彰顯你祕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殿宇今已完全奉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除所有的不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你的榮耀火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從裡面就露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地現在都當肅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身體今進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順服安靜奴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有被你來推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有肢體每個時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 等候你發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準備為你前來負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或是不用放一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 沒有不安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緊張與受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因受對付怨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沒有因懊悔倒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柔軟安靜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脫離傾向與成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你能夠自由定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你對我有指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從我活出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你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對於我的所有問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以你為答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4:49Z</dcterms:modified>
  <cp:revision>18</cp:revision>
  <dc:subject/>
  <dc:title>PowerPoint 簡報</dc:title>
</cp:coreProperties>
</file>