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D69-927B-4575-9205-AB43F6BD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A98-8776-47AD-8AF0-812A4348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341-05CC-48FA-A304-55103939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869-0744-4C8F-B33E-3CE8F0C8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AD6-4BAB-47BF-9E9C-4858A19B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CE1-4C81-4868-8CCD-D7C0A392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828-A0C2-434D-B65B-A025B13E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010-966A-43D7-A1EC-0314EB8D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B62-AAD1-4D1D-8ABD-ABB474AA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7DF-29A8-41D8-920A-F2C27AE8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B21-FE8D-4847-8D4A-73B5874A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F118-49FF-445E-89B7-A73B933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D1FB-B34C-4C77-B14E-0E9320530B3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耶穌耶穌我的性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我的性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為愛的緣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求原諒我將你聖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念千遍不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最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6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這愛將受甚麼限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要到那裏停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進進我主甘甜價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今日遠勝昨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最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最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愛你不知如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約束我的奇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愛有如一團熱火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心中火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最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你是我一切一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的倚靠食糧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心羨慕我身醫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魂永遠力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最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燒燒哦愛在我心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日夜厲害的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至所以其他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燒到無處可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耶穌最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無人無物與你比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是我歡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愛 愛你 你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5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暗中之光憂中之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在地上開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耶穌你是我愛我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誰知你價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Huijie Xiang</cp:lastModifiedBy>
  <dcterms:modified xsi:type="dcterms:W3CDTF">2016-11-07T19:17:30Z</dcterms:modified>
  <cp:revision>37</cp:revision>
  <dc:subject/>
  <dc:title>PowerPoint 簡報</dc:title>
</cp:coreProperties>
</file>