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9E3B-C247-48FE-83AF-0568CB020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7F19-8198-4AAA-9F7A-9AE8059D2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143D-027A-4937-97B2-650E147CC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8752-93A2-4557-AB64-05DC86290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A6ED-DE92-4333-87AD-78CC5FFBA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3787-1F22-4A25-A237-1FD755B4A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BCCD-B2D8-4588-8DE5-F57DD1A2A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D50C-CA00-4E08-AD7E-3763C8DC0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0F51-6845-4453-A8B2-1FB3963EF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75D5-09E5-4F10-A9BF-769ECAFEB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EEB1-7031-4CCE-BF4B-D7D9814BC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87E2-D92B-47C3-81A5-C398875B2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d13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89573-395C-4039-AAD7-71B84203F546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 u="sng">
                <a:solidFill>
                  <a:srgbClr val="ffffff"/>
                </a:solidFill>
                <a:uFillTx/>
                <a:latin typeface="標楷體"/>
                <a:ea typeface="標楷體"/>
              </a:rPr>
              <a:t>願耶和華的榮耀直存到永遠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願耶和華的榮耀直存到永遠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願我主喜悅祂所造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要一生一世來向祂歌唱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還有氣息之時向我神來稱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TW" sz="6000" spc="-1" strike="noStrike">
              <a:solidFill>
                <a:srgbClr val="ffffff"/>
              </a:solidFill>
              <a:latin typeface="標楷體"/>
              <a:ea typeface="標楷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08T16:37:15Z</dcterms:created>
  <dc:creator>陳建中</dc:creator>
  <dc:description/>
  <dc:language>en-US</dc:language>
  <cp:lastModifiedBy>陳建中</cp:lastModifiedBy>
  <dcterms:modified xsi:type="dcterms:W3CDTF">2016-06-08T16:37:43Z</dcterms:modified>
  <cp:revision>1</cp:revision>
  <dc:subject/>
  <dc:title>PowerPoint 簡報</dc:title>
</cp:coreProperties>
</file>