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EC9-DDE3-4778-9D1B-C0865E38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845-3455-41AF-A2CC-254FF921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381-F289-41FB-A1E0-A948BAD5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390-A100-4608-B113-C05E7834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2B8-CB1C-4B05-A685-03DE2FC7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C62-40E0-43F7-8D0A-E058EB5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164-4185-47E6-B10D-15ED0123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D8B-7A66-4E66-A7AC-ACD430B5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5B7-6C7A-4472-9495-3B108A60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BF8-C04A-46A6-802E-9FFA903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CDB-76BA-4817-8E4E-27090B9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035-5BE5-48FE-B393-9C25D967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64E0-83BE-464A-AF28-FE1CABECA91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們卻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卻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個更美的家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是在天上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就是在天上的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以神被稱為我們的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不以為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為祂已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給我們豫備了一座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豫備了一座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7:40Z</dcterms:modified>
  <cp:revision>52</cp:revision>
  <dc:subject/>
  <dc:title>PowerPoint 簡報</dc:title>
</cp:coreProperties>
</file>