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FF0-0326-455E-836F-4196640C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7E9-71EE-4E34-A672-3E0F548F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9C6-9327-4C87-A8E2-FB7B4A00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CDA-80E3-48F4-A3CB-4E862CD7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96E-9D89-47FF-AC68-4464A2EB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DB9-86A4-44D6-93B2-5F64AFB2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537-56E1-45C0-9BA0-300B24DC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3B9-DBFF-450D-917A-D7F482B8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9A5-C9B0-4A19-AEC1-11DF4E4E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DD8-DBA7-412B-89B9-9BB723C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F26-71B3-4D3B-AF67-76905467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D92-2AF6-4D42-AC7A-D843FD10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9B6B-441E-4314-BC43-A58A428A144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祂是一切最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一切最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所一切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人生平常所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人生終久所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缺乏之時豫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倚之時扶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有美時最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論何時信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窮喜樂原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年日展開不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一切最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所一切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3:22Z</dcterms:modified>
  <cp:revision>41</cp:revision>
  <dc:subject/>
  <dc:title>PowerPoint 簡報</dc:title>
</cp:coreProperties>
</file>