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C899-020A-40EE-BF4A-F1BF1284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05F0-8C94-4E38-B3E2-221363B9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23F6-5995-4459-A2C0-7DE67630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11B7-B89A-403E-8581-EBA1FCF2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27D9-0F6A-470F-A041-FC02ED26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110B-348E-4F69-966D-43858417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E59F-0108-4035-9F25-B9B1ECF8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33D6-284A-4B48-B0E7-CFD9E675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543D-93E9-478C-89E0-4BC55213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DCB4-03E0-4417-92BA-3B3C8264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7CB6-E944-4B70-93C1-94630DDB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BC74-C036-4483-A079-E74887F9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3DED-43C4-4F1B-8859-8140A459A2C5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我來敬拜全能的大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來敬拜全能的大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這愛在耶穌裡顯出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獻自己予無窮之力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此大力竟來愛我這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不用再想到我的自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讓我沈入你愛的海洋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 你何等縈繞我心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的心也何等戀慕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藉溫柔又強烈的愛吸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傾所有都來奔向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 甘甜良人善美本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已揀選我 我也選擇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永為是 又是我所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深覺必須完全為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非囿於受造或恩賜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只安息 安息你裡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此處安穩 此處享受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故我跟隨你有福的吸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為你永獻全心全生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救贖主你 我唯一好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為著我將性命全傾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藉你寶血我得蒙救贖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救恩救自最深的墮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願為你永獻全心所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 願你聖善的尊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永遠銘刻在我心深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你甜蜜與榮耀的同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時刻深印我心與意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言語 工作 並一切行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惟讓耶穌顯明祂的榮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6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在主耶穌寶貴聖名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天父心意向我們開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賜一泉充滿愛 平安 喜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近在咫尺 豐盛湧不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父啊 一旦罪人能明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他的全人必飛奔來愛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13:39Z</dcterms:modified>
  <cp:revision>15</cp:revision>
  <dc:subject/>
  <dc:title>PowerPoint 簡報</dc:title>
</cp:coreProperties>
</file>