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EF6-CF1D-4E7A-86C2-B76222B5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6C4-0692-46D1-AF6E-CBD55D35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EAD-55E2-4E26-A3F1-D3C91882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B0C-6AE0-42CE-80E5-FAAF0992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ABA-02ED-477A-8508-3023A9F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066-1B80-4145-9B84-F08EB341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6F0-2D38-4C3E-A809-F2956388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92F-313D-4CD4-B608-303DA8C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4AD-9449-40C0-B982-D6C0182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900-6374-45C6-A438-E2B88B5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6E8-7732-4D90-BCFE-74C40A1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D41-ECB0-4565-8D49-213F391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23C-81D2-4E53-B48F-CBE1E467D41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親愛主握我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 握我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穩步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敵雖吼 友雖疏 不驚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經風波 歷黑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穩妥 入光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握我手 親愛主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涉長途 多艱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 願你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保守 你扶助 不退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我求 常引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加我力 免跌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握我手 親愛主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8:34Z</dcterms:modified>
  <cp:revision>3</cp:revision>
  <dc:subject/>
  <dc:title>PowerPoint 簡報</dc:title>
</cp:coreProperties>
</file>