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A747-AB40-4A45-A410-470AA87B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E32E-5448-4EC9-95EF-6CD95C49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9419-DAA5-4950-8053-292AFC8A2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AC6D-1807-4DF9-B5FD-0FE1389A5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6593-3029-4F67-997B-97869A73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1546-971A-4B1F-8991-DFD4B767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0920-F43F-48B9-9D0B-14AD3B68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9097-0EB1-4583-AA86-A14ABA54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7C15-7EDD-46F5-A163-C1536A1A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2A29-C2D7-4098-A715-7DCA5303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14A3-2BB8-4491-9604-D07DEC9C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D4BB-0B9A-480D-8A63-D2808F58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92DA-588D-400A-9BD9-E9405D242AF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耶穌是我的我有把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是我的 我有把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這使我豫嘗榮耀生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已蒙血贖回 已受恩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已由靈重生作神後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這是我自傳 是我詩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讚美我救主長日不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完全順服 完全甘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被提之景象顯在眼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似乎有聲音 從天而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纏綿說憐憫耳語述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這是我自傳 是我詩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讚美我救主長日不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21:30Z</dcterms:modified>
  <cp:revision>36</cp:revision>
  <dc:subject/>
  <dc:title>PowerPoint 簡報</dc:title>
</cp:coreProperties>
</file>