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22D0-14C6-4895-8583-219034AF1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D785-1706-485D-B698-78F212FBA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191F-FD53-4810-A44E-84FACE2F1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11BF-A293-4EE9-AC2C-141633818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07F4-D9F6-46F8-8F48-F6481A64C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070A-3897-4D3F-8EDC-F26EB9899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194F-8C3C-457C-BE3F-A56E4BEC2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1F05-25F5-47EF-91A8-84C785548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14E1-F555-437B-8224-22B047F10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4BAB-9157-4284-853E-C8EEF6178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7DF6-C3CA-4A2C-A2DD-674A7479B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E318-0C5D-4F11-83A1-6FB15E0AB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13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A0A8D-ADF5-4A11-BD7D-220CC05C72CC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耶穌你的全勝的愛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1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耶穌 你的全勝的愛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已經澆灌我心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心就不再會搖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就能生根於神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就能生根於神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2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但願聖火今在我心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就已發旺不休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燒掉所有卑情下品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並使高山熔流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並使高山熔流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3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曾賜下祭壇火炭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求你燒掉我罪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向焚燒的靈呼喊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聖靈滿我心內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聖靈滿我心內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4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心要接鍛鍊的火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照亮我魂光耀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散佈生命在每角落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並使全人聖潔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並使全人聖潔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5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搖動的心求你扶掖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使它變成堅崖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基督成為我的世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的全心成愛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的全心成愛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6000" spc="-1" strike="noStrike">
              <a:solidFill>
                <a:srgbClr val="ffffff"/>
              </a:solidFill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8T16:05:16Z</dcterms:created>
  <dc:creator>陳建中</dc:creator>
  <dc:description/>
  <dc:language>en-US</dc:language>
  <cp:lastModifiedBy>陳建中</cp:lastModifiedBy>
  <dcterms:modified xsi:type="dcterms:W3CDTF">2016-06-08T16:17:34Z</dcterms:modified>
  <cp:revision>26</cp:revision>
  <dc:subject/>
  <dc:title>PowerPoint 簡報</dc:title>
</cp:coreProperties>
</file>