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C5AC-9975-4F65-A832-947B2A31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207F-1E3A-4DFC-9076-518BE3D5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AE7A-C829-41E6-BD90-A9488E2F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559-1705-4963-ACC4-C871CC37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F0E-83DC-4A5D-913F-FEA4F406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6D6-4D99-46AC-B670-3AA4B213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2301-41D7-4F80-ACEB-5664A862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9D4-9FD7-4F3A-8CE1-FB2E74D7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F379-8F9A-4B63-BCB1-A59013F2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EDFD-7827-4773-9A3B-17D9BB58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22AF-6CB6-4FE0-A786-34D1F6EF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B03-C339-4C9D-8BF0-95133D6D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2EB7-8C44-4105-A577-2A93241A56C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我主基督已經顯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主基督已經顯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來要摧毀撒但一切作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靠主耶穌我們已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揚聲歡呼高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齊迎接天國降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過罪祂已勝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祂已勝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戰勝死亡 祂復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祂復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過疾病 祂已掌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祂已掌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耶穌已掌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靠主聖名我們站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靠寶血能力在此地作宣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黑暗權勢不能再停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撒但國度崩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主基督已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過罪祂已勝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祂已勝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戰勝死亡 祂復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祂復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過疾病 祂已掌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祂已掌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耶穌已掌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勝過疾病 祂已掌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哈利路亞 祂已掌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耶穌已掌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6:38Z</dcterms:modified>
  <cp:revision>49</cp:revision>
  <dc:subject/>
  <dc:title>PowerPoint 簡報</dc:title>
</cp:coreProperties>
</file>