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CB19-9ACF-4F6E-8D3B-B4C39338C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9F99-2D76-4C14-A200-5EB9478C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732D-50CC-4790-A786-A250AB61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6548-E0CA-4096-9670-295414D6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86A4-CF25-4DBD-91CB-16D7DBE6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7DE7-7384-4BCD-91CA-C14787B2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C06B-7176-4DD2-B337-9BB40C55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7726-7324-4C95-97F5-9273E487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541D-2C6B-4E27-B773-4D1C9181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15AC-DE82-42E6-9B6B-962D9D84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01AE-D8AB-4BC5-B96C-202DD0B8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A9D-4155-4C8C-81E4-E5D2EC11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D247-B6BC-4E68-80E2-DAFE6248FB13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惟有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耶穌是我題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的信息是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耶穌獨是我歌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所仰望是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耶穌 永是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歌頌這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救主生命大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君王建國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6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現在等候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要聽祂來的召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始終惟有耶穌可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耶穌獨萬有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耶穌 永是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歌頌這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救主生命大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君王建國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耶穌 永是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歌頌這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救主生命大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君王建國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耶穌是我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擔當我的所有罪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一次成功永遠救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使我得以蒙恩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耶穌 永是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歌頌這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救主生命大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君王建國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耶穌是我生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救我脫離罪與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耶穌用祂聖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充滿我心作我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耶穌 永是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歌頌這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救主生命大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君王建國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耶穌是我大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擔當我的病與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復活生命升天豐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都分賜祂肢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耶穌 永是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歌頌這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救主生命大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君王建國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有耶穌是我能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是祂賜下五旬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喔主求你使我得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充滿聖靈常聖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24:04Z</dcterms:modified>
  <cp:revision>42</cp:revision>
  <dc:subject/>
  <dc:title>PowerPoint 簡報</dc:title>
</cp:coreProperties>
</file>