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17D7-5D1A-4AF3-A091-5BE349683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CEA5-D64E-483B-B938-D3CCC621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6983-DD46-4345-93B0-9061F0F5A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FBA1-78C2-4669-AAB2-B57165432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2580-F6A9-4372-BA41-39BD65A0A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8209-50C2-49AF-B6C7-F6A6600D1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162A-D545-4044-B69C-719800994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5EB1-F903-49C1-B0BE-73C18957B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CF9B-2FED-4574-A02B-1BFE4251F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0BD2-C82C-4B2B-9343-838B1357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4588-E3A4-458D-A88D-56ABC068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47A3-53EA-4D09-8F70-8DD38CA9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13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53C64-EB3E-4F81-968B-421EE2356D70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12B-</a:t>
            </a: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雅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主啊 你吸引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就快跑隨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心深深與主密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雖然南風吹來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雖然北風興起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卻溢出我園中香氣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主全然美麗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主滿我心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主你屬我 主我也屬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眾水不能熄滅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大水不能淹沒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必 我必愛主到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8T16:37:15Z</dcterms:created>
  <dc:creator>陳建中</dc:creator>
  <dc:description/>
  <dc:language>en-US</dc:language>
  <cp:lastModifiedBy>陳建中</cp:lastModifiedBy>
  <dcterms:modified xsi:type="dcterms:W3CDTF">2016-06-08T16:39:44Z</dcterms:modified>
  <cp:revision>7</cp:revision>
  <dc:subject/>
  <dc:title>PowerPoint 簡報</dc:title>
</cp:coreProperties>
</file>