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D0EB-8EBB-405C-AE13-8D194E68C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B92C-A828-4A5A-8668-12F5AF63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EE86-6CCA-416B-BE78-8A049127B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6747-0DF1-406F-8311-E3C8A14F7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9E1D-DAE4-4D03-ADB4-B87DBFB8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1B7B-662D-462D-A94E-11224E01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44A2-1143-48E4-990B-29846566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6EE5-9D21-4328-A345-E1FAF1C2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7B2B-D723-47CF-AB56-185A86B0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843A-AC38-4041-8493-8E4B98B0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4050-BE6D-4E8B-832C-B6E6DA54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4E90-47FC-41F7-902A-04F779A0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8EBE-E46E-4E37-8346-A8753F2071FA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你的靈豈非與祂會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的靈豈非已與祂會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的心曾否被祂所奪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是否認祂為人中第一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歡喜揀選那上好福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是千萬人中之第一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 求你開我眼並奪我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摔碎眾偶像 並歡然加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為千萬人中之第一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6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有彼得所見的淚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司提反所仰望的榮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陪著馬利亞同哭的慈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會使我脫離屬地吸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是千萬人中之第一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 求你開我眼並奪我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摔碎眾偶像 並歡然加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為千萬人中之第一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7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 求你大愛將我吸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到你自己充滿這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們蒙救贖是你的同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偶像還有甚麼相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是千萬人中之第一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 求你開我眼並奪我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摔碎眾偶像 並歡然加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為千萬人中之第一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是千萬人中之第一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 求你開我眼並奪我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摔碎眾偶像 並歡然加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為千萬人中之第一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世界的一切虛榮珍寶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盡都是偶像使人顛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鍍過金使人不容易淡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浸過蜜使人真難超脫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是千萬人中之第一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 求你開我眼並奪我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摔碎眾偶像 並歡然加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為千萬人中之第一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是甚麼會使地上偶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失去它那美麗的模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並不是灰心失望或勸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乃是無價之寶的一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是千萬人中之第一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 求你開我眼並奪我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摔碎眾偶像 並歡然加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為千萬人中之第一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並不是甚麼本分催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就會使偶像化成灰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乃是祂榮耀美麗的噴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並祂慈愛溫柔的流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是千萬人中之第一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 求你開我眼並奪我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摔碎眾偶像 並歡然加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為千萬人中之第一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有誰願熄滅他的燈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若非早晨的日已在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又有誰願意收藏他寒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若非炎夏的風已興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21:56Z</dcterms:modified>
  <cp:revision>37</cp:revision>
  <dc:subject/>
  <dc:title>PowerPoint 簡報</dc:title>
</cp:coreProperties>
</file>