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B3D-4773-4A4A-871B-804A8AC6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FDC-E63E-47BB-9DBE-2AAC32C8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E8E-F09B-41A5-9DA9-B15E6540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BC2-3D1C-4890-AB07-38D13B74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6CD-5C67-4684-9344-CC3A4132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16C-2A0E-44E3-885D-6485836E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92E-8A98-472B-9993-989212BB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353-41E6-4DB7-8F69-89139324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6BD-D05C-45DC-BB18-EB47EEF7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AC0-5532-4F62-87B9-68236CD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E8A-F596-4CEE-A6AF-0F45C60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392-DDFC-4169-82A0-AF31D4AB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0574-DB10-4326-8674-9C37FA55DDF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住在主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無上的福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甜美的經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主與我聯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與主無間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恩膏必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聖靈必引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順服主恩膏 得享主肥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跟隨主聖靈 必作主同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恩光必照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黑影必除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恩光一順從 生命必增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黑影全脫離 心靈才舒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軟弱變剛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生命吞死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歎息變歌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喜樂代憂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撒但難攻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世俗失吸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罪惡無權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自己必消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模成主榮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充滿主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經歷主大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吸取主豐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在主裡面 心靈在渴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常與主交通 聖靈在催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願我全人 浸在主裡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主溶為一 從今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4:25Z</dcterms:modified>
  <cp:revision>17</cp:revision>
  <dc:subject/>
  <dc:title>PowerPoint 簡報</dc:title>
</cp:coreProperties>
</file>