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964A-A3ED-48A4-82F4-1F1313994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5A37-B3CB-4F8C-B6E0-69CCAC2D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69F4-AB91-4237-91B2-967DE43D9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E89C-FE8A-4BAB-A97D-D2234870B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9C04-DF7E-4BA2-A1BA-522ECF3E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0C17-515F-40F2-8545-6B6692C0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3514-1158-46E9-8BEE-A437EB2F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C613-1DA5-4D85-836F-D7FA70A3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39D6-700C-4F93-8855-958BEE16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AEDB-D2ED-4B0D-9C64-2F965C0F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230F-B05A-4AA3-A9BB-71228D28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0E1D-5E45-46F5-9C54-F27C28FD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DA4B-D4AA-4AEF-86BE-644E95EF9342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祂隱藏我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何等奇妙救主是耶穌我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是我的奇妙救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隱藏我魂在磐石的穴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那裏我見樂泉湧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隱藏我魂在磐石的穴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蔭庇乾旱疲乏之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將我生命藏祂愛的深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又用祂聖手來遮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又用祂聖手來遮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何等奇妙救主是耶穌我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背去我一切重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用手緊握住使我不動搖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一生賜我力量無窮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隱藏我魂在磐石的穴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蔭庇乾旱疲乏之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將我生命藏祂愛的深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又用祂聖手來遮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又用祂聖手來遮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時刻祂以無窮恩典為冠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以祂豐滿溢我心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當我被提時我要歌唱歡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何等奇妙我主我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隱藏我魂在磐石的穴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蔭庇乾旱疲乏之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將我生命藏祂愛的深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又用祂聖手來遮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又用祂聖手來遮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復活變化我以祂光明為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祂相遇空中雲外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億萬眾聖唱在穹蒼高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一同喊出祂愛無窮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隱藏我魂在磐石的穴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蔭庇乾旱疲乏之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將我生命藏祂愛的深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又用祂聖手來遮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又用祂聖手來遮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陳建中</cp:lastModifiedBy>
  <dcterms:modified xsi:type="dcterms:W3CDTF">2016-06-08T16:20:30Z</dcterms:modified>
  <cp:revision>33</cp:revision>
  <dc:subject/>
  <dc:title>PowerPoint 簡報</dc:title>
</cp:coreProperties>
</file>