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AA4-E016-4A14-AF04-32360162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FF0-B833-4ED2-86EB-9844F986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551-BB2A-4DEC-ADC1-B1A1D1C2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271C-10E1-4F66-92DC-10759FC8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BD4-D5FE-4C21-9334-4FFFBEE8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E40-C143-48EC-B7E5-D008A106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EEC-D55D-47D2-A612-04B54DC6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540-CE4D-433D-92C0-E133E3EC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70F9-1B9D-4777-8725-A74C66EA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E8E-F9FE-49BB-88AF-E321BE6B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2F4-1BE3-43CF-A19E-F94F2AB3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CC12-7452-444C-86F2-680B459E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6591-0B9C-48F8-924E-1A8D45B81C54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神率領以色列眾軍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圍繞耶利哥城牆輕輕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隱聞得勝腳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利在前面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著耶穌寶血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我聞得勝腳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利在前面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著耶穌寶血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我聞得勝腳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大衛攜五塊圓石佩彈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獨自迎戰那巨人赴沙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他深知主應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利在前面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著耶穌寶血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我聞得勝腳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以理每日三次禱告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卻遭陷害入獅坑受試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他堅定不喪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利在前面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著耶穌寶血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我聞得勝腳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若有眾試煉苦難圍繞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立刻仰望主耶穌讚美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忠心作主精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利在前面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著耶穌寶血 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我聞得勝腳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曙光已現我隱聞號角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挺身昂首要忠心打美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心倚靠主 我們齊步往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信心看見勝利在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6:27Z</dcterms:modified>
  <cp:revision>23</cp:revision>
  <dc:subject/>
  <dc:title>PowerPoint 簡報</dc:title>
</cp:coreProperties>
</file>