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228C-07FD-4710-B140-F3B5CE83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923A-5EA9-4FDB-8CC0-AECEB132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E2B3-E335-4675-9E5D-B1BD2154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528-64E8-4476-AAB4-1C7A0184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4F8-A343-4491-87FE-E5F4184D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0554-1A91-469E-B0ED-845F9F4E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485-E1A8-418D-BAB3-B8F0CEAA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779-6363-425D-8B87-29B45C25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846-46C1-4F22-8677-B429A6D0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BAC-CBA1-4D81-8872-64608B62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7DB-4646-4409-985B-A77BE49D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A96-02A1-4C02-8968-71A093C0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8673-4743-4CD5-BF6F-83ADCF9DDD5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榮耀歸於真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神得著榮耀 祂行了大事</a:t>
            </a:r>
            <a:br>
              <a:rPr sz="6000"/>
            </a:b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愛惜我世人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竟賜其愛子</a:t>
            </a:r>
            <a:br>
              <a:rPr sz="6000"/>
            </a:b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流血捨祂性命 為我們贖罪</a:t>
            </a:r>
            <a:br>
              <a:rPr sz="6000"/>
            </a:b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將恩門大開放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萬人入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讚美神 讚美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願天地合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讚美神 讚美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願百姓同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拜天上父神 靠耶穌神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將榮耀全歸祂 祂行了大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救恩十分完全 乃寶血所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凡信者有永生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應許不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論那個罪人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若實在相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必立刻從耶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得饒恕之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讚美神 讚美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願天地合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讚美神 讚美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願百姓同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拜天上父神 靠耶穌神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將榮耀全歸祂 祂行了大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大事神已作成 極奇妙無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靠耶穌神子我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雖心中大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比這更加奇妙 更大的要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當親眼見耶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要何等開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讚美神 讚美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願天地合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讚美神 讚美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願百姓同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拜天上父神 靠耶穌神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將榮耀全歸祂 祂行了大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Jeff Xiang</cp:lastModifiedBy>
  <dcterms:modified xsi:type="dcterms:W3CDTF">2021-08-14T20:48:14Z</dcterms:modified>
  <cp:revision>3</cp:revision>
  <dc:subject/>
  <dc:title>PowerPoint 簡報</dc:title>
</cp:coreProperties>
</file>