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2124-F853-4C87-84BE-15CDEA1F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82D-F587-44B4-8133-5E848201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069-EA99-43FC-A162-2F0F4A38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DA8-C37C-4513-919B-0C47503B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F79-53BA-4F9F-BAED-76B2023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E60-29CC-4009-BF27-C65A4825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A85-EC3B-4F59-8CC8-2771ECE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1ED-189A-465F-9E0B-2494DCB4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62C-3555-4E72-B62C-B5FBFC07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E2A-11FE-4EBD-8F22-8893C9F4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E08-08A4-407A-8A2B-A69AE1E3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EC4-C38A-491E-9904-6AAD15F6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541-2B35-4724-AAC3-7841E7BDD41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卑微再卑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主於你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尋求你自己 哦憐憫何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帶著需要 主我今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哦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世上萬事 如同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十架作工將我征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祈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願己生命消沉並被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軟弱且無有 一心向天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全倒空 你以愛下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世上萬事 如同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十架作工將我征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卻步步高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地香甜聯結 盡解了無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忠心走這十架窄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羞辱換冠冕 損失換祝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世上萬事 如同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十架作工將我征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30:33Z</dcterms:modified>
  <cp:revision>61</cp:revision>
  <dc:subject/>
  <dc:title>PowerPoint 簡報</dc:title>
</cp:coreProperties>
</file>