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FB7-26DF-4953-BC02-093C9829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C3E2-F8C5-48DE-8330-263C515E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2F7-B8DD-4051-AF86-3B6DC270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0FC-D39E-44DD-8321-1F78AB72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2F6C-1D68-45FD-8FCB-CF3EB49B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42F-5619-4F05-BA62-E712BA99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2A3-DA3C-4621-B20D-2CC9B25B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5BF-E99C-4806-A009-5C620881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948-4565-41F9-AFD0-4DACF3FA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CF2-134E-450E-B406-BACACDC2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6C1D-F6C8-4D9A-B7C1-491B522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152-2F66-4EBD-B888-DCB00E7C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7B90-7FE4-4D26-AF1D-172AE48DE62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獻上活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切切渴慕你 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緊緊跟隨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恩典與慈愛永無止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信實直到永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王我的神因你奇妙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獻上我的讚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主耶穌 求用我一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主耶穌 求用我一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深深向你敬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靈渴慕你榮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完全相信你寶貴應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在你懷中安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向世人歌唱你的恩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我見你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主耶穌 求用我一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主耶穌 求用我一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30:56Z</dcterms:modified>
  <cp:revision>62</cp:revision>
  <dc:subject/>
  <dc:title>PowerPoint 簡報</dc:title>
</cp:coreProperties>
</file>