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513-7294-4436-9655-BF2A3586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B48-588B-4851-9407-259F3406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7F3-CD41-48F0-960A-14D3E8A5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F53-64B8-48A1-9B65-068020E5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358-2D5E-46F7-9BF5-BBE72E5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C1B-20AD-4DBC-BEB9-708C208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AAF-7E9F-46F4-96B7-32A912E5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3E3-ADFF-48F8-8F87-4A3ED307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35D-E834-4446-8166-A25F41AC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F26-D6D7-4979-8716-44F5D98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286-45FF-40CC-9F95-292200E7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E7F-F2D3-40AD-89B8-0480606A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2199-CF63-49B2-ACAC-2E77578E30B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北風啊速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北風啊 求速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南風啊 快吹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吹在我心的園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園芬芳播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所愛者 來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屬你 你屬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同往田間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享受各樣佳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所愛者 來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屬你 你屬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同往田間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享受各樣佳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在祂的心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銘刻如同印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愛比死更堅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眾水不能淹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在祂的心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銘刻如同印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愛比死更堅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眾水不能淹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以外 在高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可以有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以外 在人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也別無所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以外 在高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可以有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以外 在人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也別無所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北風啊 求速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南風啊 快吹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吹在我心的園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園芬芳播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哪噠香膏澆祂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秀麗髮擦祂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正當王坐席時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屋馨香四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哪噠香膏澆祂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秀麗髮擦祂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正當王坐席時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屋馨香四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像林中蘋果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喜歇祂柔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果實甘甜又成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增我力暢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像林中蘋果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喜歇祂柔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果實甘甜又成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增我力暢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5:56Z</dcterms:modified>
  <cp:revision>47</cp:revision>
  <dc:subject/>
  <dc:title>PowerPoint 簡報</dc:title>
</cp:coreProperties>
</file>