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FD5-C96E-4328-92CD-8353B1DD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661-4BEA-41B1-B39B-B252FDB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053-47DD-425A-AA15-A356C997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C7D-367B-4F9C-AC4A-3AEB8A6C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85E-C527-4085-866D-1C5DEB4B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CF6-3B5A-48F6-8351-AC6E185A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EFC-1146-4A38-A253-21C1AFA2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15B-B704-4039-9C3B-EC21C511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471-C40E-49B1-8524-45DF7C5D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722-9224-44A0-BDDF-9EC36C7A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A54-36B1-4A4B-ABD0-679868B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679-83F5-4994-B16F-28B4BBC5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55AD-837E-42A4-A5EA-6DF0FC02BDC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我愛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我愛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俯伏在你面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敬拜你 主 我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8:27Z</dcterms:modified>
  <cp:revision>28</cp:revision>
  <dc:subject/>
  <dc:title>PowerPoint 簡報</dc:title>
</cp:coreProperties>
</file>