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028-9E6F-43E1-80E1-D94A2CC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151-B796-4AB5-9C32-1B89182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249-C948-49E2-A70D-4F645511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E2F-13F4-4D82-AE9B-ACC45AEE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54D-E72A-499E-8122-EB6A39A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EA4-C9D9-4D3A-9B2C-0AC2F6D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4FC-9422-4BAD-8698-CEE56D79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9DD-C82E-4361-94F8-D7FD0025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5B5-AABB-4DFC-A636-46CCDC70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7F9-6A60-4837-8187-EB7B0A1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172-20A8-4070-8FD4-2962F73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618-6040-451C-9187-05996FC8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9F0-C283-4463-90A4-184FBD4CA2C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主求你向我吹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求你向我吹聖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教我如何吸入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助我向你胸懷一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犯罪與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呼出我的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入你慈愛的耳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吸入你的答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靜疑惑和驚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7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每刻都在呼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生命作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呼一吸都在乎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你由我來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才可能被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放棄軟弱或是力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憐憫和恩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的罪律桎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已為我全除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你的聖潔豐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發現惟你是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正呼出我的憂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你慈愛的胸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你的喜樂保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吸入你的甜安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呼出我的愁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呼出我罪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是吸入 一直吸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所有豐富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正呼出我的病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早已為我負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正吸入你的醫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早已賜平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8:14Z</dcterms:modified>
  <cp:revision>2</cp:revision>
  <dc:subject/>
  <dc:title>PowerPoint 簡報</dc:title>
</cp:coreProperties>
</file>