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F72-BFCC-472D-A497-5FD724B2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280-545A-4ECD-95B3-393E035B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DCC9-1949-48D8-AB95-5E6528AB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7B1-A737-49C7-92FE-30ABAF83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572-15CE-4A6F-AA2B-8B307C6D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96BC-95A2-4F45-9015-D569F7A7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DD1-D8CB-48CE-83DA-4277FEA3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BBA-8871-4073-8650-2659EDCC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3DA-34AA-4241-B76D-DDA8BD23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1C1-EDD9-40F6-8F44-3D707400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A2F-DDA8-4012-A900-8CFAF38C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F15-5CEF-46F6-BA00-FA592A5D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C0E2-571A-4246-B931-5E3267578B4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湧出活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生命的活水 從我湧出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瘸腿者行路 瞎眼看得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打開監獄門 釋放被擄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生命的活水 從我湧出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湧出活水 從我靈深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湧出活水 使我得痊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湧出活水 並賜給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那豐盛的生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6:59Z</dcterms:modified>
  <cp:revision>50</cp:revision>
  <dc:subject/>
  <dc:title>PowerPoint 簡報</dc:title>
</cp:coreProperties>
</file>