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1A33-AF34-4A09-B641-376D0DE93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564A-8ED9-4472-9F26-6D0C9D5D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F5BC-6AE7-4FEB-81BA-4C3AF3A9E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DE3F-8A9D-4266-A9C2-E23CCA85A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2CBB-8446-4955-AB8E-DE741C8C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42CF-AE37-4A92-A8B4-97C49801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758D-4639-4454-9B91-7A4D6D1C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8DA3-B639-41D7-9B05-FAE74BFE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8A89-F63E-4022-A230-D45833B6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B950-FA1D-4EEA-9C3B-5FCDCBEF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123E-0772-4B47-8BD4-CCF06B67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5F2B-91D1-4438-ABB9-878F23F9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52E1-9C71-471D-AB08-7AEDE1A380BF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哦我要像</a:t>
            </a:r>
            <a:r>
              <a:rPr b="1" lang="zh-TW" sz="54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祢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哦我要像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可愛的救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這是我所求是我所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歡喜丟棄一切的富足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盼望能和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形像合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121921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哦我要像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哦我要像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可愛的救主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像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模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像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的甘甜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像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的貞堅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在我的衷心刻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形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121921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哦我要像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哦我要像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可愛的救主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像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模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像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的甘甜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像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的貞堅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在我的衷心刻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形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哦我要像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那樣的柔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寬恕又憐憫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仁愛良善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幫助孤單的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勉勵灰心的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尋找犯罪人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不辭危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121921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哦我要像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哦我要像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可愛的救主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像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模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像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的甘甜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像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的貞堅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在我的衷心刻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形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哦我要像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那樣的忍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聖潔而謙卑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於人無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溫和的接受無理的苦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寧可救別人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自己死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121921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哦我要像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哦我要像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可愛的救主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像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模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像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的甘甜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像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的貞堅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在我的衷心刻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形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哦我要像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今迫切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願出代價跟隨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將我的所是和我的所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完全獻給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不自經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121921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哦我要像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哦我要像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可愛的救主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像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模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像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的甘甜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像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的貞堅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在我的衷心刻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形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5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哦我要像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正當我祈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倒下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的愛充滿我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使我作個殿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配給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居留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使我的生命與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相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Jeff Xiang</cp:lastModifiedBy>
  <dcterms:modified xsi:type="dcterms:W3CDTF">2021-10-01T14:08:59Z</dcterms:modified>
  <cp:revision>47</cp:revision>
  <dc:subject/>
  <dc:title>PowerPoint 簡報</dc:title>
</cp:coreProperties>
</file>