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76.xml.rels" ContentType="application/vnd.openxmlformats-package.relationships+xml"/>
  <Override PartName="/ppt/slides/_rels/slide372.xml.rels" ContentType="application/vnd.openxmlformats-package.relationships+xml"/>
  <Override PartName="/ppt/slides/_rels/slide81.xml.rels" ContentType="application/vnd.openxmlformats-package.relationships+xml"/>
  <Override PartName="/ppt/slides/_rels/slide104.xml.rels" ContentType="application/vnd.openxmlformats-package.relationships+xml"/>
  <Override PartName="/ppt/slides/_rels/slide463.xml.rels" ContentType="application/vnd.openxmlformats-package.relationships+xml"/>
  <Override PartName="/ppt/slides/_rels/slide458.xml.rels" ContentType="application/vnd.openxmlformats-package.relationships+xml"/>
  <Override PartName="/ppt/slides/_rels/slide105.xml.rels" ContentType="application/vnd.openxmlformats-package.relationships+xml"/>
  <Override PartName="/ppt/slides/_rels/slide464.xml.rels" ContentType="application/vnd.openxmlformats-package.relationships+xml"/>
  <Override PartName="/ppt/slides/_rels/slide110.xml.rels" ContentType="application/vnd.openxmlformats-package.relationships+xml"/>
  <Override PartName="/ppt/slides/_rels/slide106.xml.rels" ContentType="application/vnd.openxmlformats-package.relationships+xml"/>
  <Override PartName="/ppt/slides/_rels/slide111.xml.rels" ContentType="application/vnd.openxmlformats-package.relationships+xml"/>
  <Override PartName="/ppt/slides/_rels/slide181.xml.rels" ContentType="application/vnd.openxmlformats-package.relationships+xml"/>
  <Override PartName="/ppt/slides/_rels/slide202.xml.rels" ContentType="application/vnd.openxmlformats-package.relationships+xml"/>
  <Override PartName="/ppt/slides/_rels/slide485.xml.rels" ContentType="application/vnd.openxmlformats-package.relationships+xml"/>
  <Override PartName="/ppt/slides/_rels/slide506.xml.rels" ContentType="application/vnd.openxmlformats-package.relationships+xml"/>
  <Override PartName="/ppt/slides/_rels/slide486.xml.rels" ContentType="application/vnd.openxmlformats-package.relationships+xml"/>
  <Override PartName="/ppt/slides/_rels/slide507.xml.rels" ContentType="application/vnd.openxmlformats-package.relationships+xml"/>
  <Override PartName="/ppt/slides/_rels/slide487.xml.rels" ContentType="application/vnd.openxmlformats-package.relationships+xml"/>
  <Override PartName="/ppt/slides/_rels/slide508.xml.rels" ContentType="application/vnd.openxmlformats-package.relationships+xml"/>
  <Override PartName="/ppt/slides/_rels/slide191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426.xml.rels" ContentType="application/vnd.openxmlformats-package.relationships+xml"/>
  <Override PartName="/ppt/slides/_rels/slide114.xml.rels" ContentType="application/vnd.openxmlformats-package.relationships+xml"/>
  <Override PartName="/ppt/slides/_rels/slide109.xml.rels" ContentType="application/vnd.openxmlformats-package.relationships+xml"/>
  <Override PartName="/ppt/slides/_rels/slide261.xml.rels" ContentType="application/vnd.openxmlformats-package.relationships+xml"/>
  <Override PartName="/ppt/slides/_rels/slide389.xml.rels" ContentType="application/vnd.openxmlformats-package.relationships+xml"/>
  <Override PartName="/ppt/slides/_rels/slide514.xml.rels" ContentType="application/vnd.openxmlformats-package.relationships+xml"/>
  <Override PartName="/ppt/slides/_rels/slide493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117.xml.rels" ContentType="application/vnd.openxmlformats-package.relationships+xml"/>
  <Override PartName="/ppt/slides/_rels/slide476.xml.rels" ContentType="application/vnd.openxmlformats-package.relationships+xml"/>
  <Override PartName="/ppt/slides/_rels/slide264.xml.rels" ContentType="application/vnd.openxmlformats-package.relationships+xml"/>
  <Override PartName="/ppt/slides/_rels/slide86.xml.rels" ContentType="application/vnd.openxmlformats-package.relationships+xml"/>
  <Override PartName="/ppt/slides/_rels/slide403.xml.rels" ContentType="application/vnd.openxmlformats-package.relationships+xml"/>
  <Override PartName="/ppt/slides/_rels/slide382.xml.rels" ContentType="application/vnd.openxmlformats-package.relationships+xml"/>
  <Override PartName="/ppt/slides/_rels/slide91.xml.rels" ContentType="application/vnd.openxmlformats-package.relationships+xml"/>
  <Override PartName="/ppt/slides/_rels/slide266.xml.rels" ContentType="application/vnd.openxmlformats-package.relationships+xml"/>
  <Override PartName="/ppt/slides/_rels/slide271.xml.rels" ContentType="application/vnd.openxmlformats-package.relationships+xml"/>
  <Override PartName="/ppt/slides/_rels/slide87.xml.rels" ContentType="application/vnd.openxmlformats-package.relationships+xml"/>
  <Override PartName="/ppt/slides/_rels/slide383.xml.rels" ContentType="application/vnd.openxmlformats-package.relationships+xml"/>
  <Override PartName="/ppt/slides/_rels/slide404.xml.rels" ContentType="application/vnd.openxmlformats-package.relationships+xml"/>
  <Override PartName="/ppt/slides/_rels/slide92.xml.rels" ContentType="application/vnd.openxmlformats-package.relationships+xml"/>
  <Override PartName="/ppt/slides/_rels/slide267.xml.rels" ContentType="application/vnd.openxmlformats-package.relationships+xml"/>
  <Override PartName="/ppt/slides/_rels/slide272.xml.rels" ContentType="application/vnd.openxmlformats-package.relationships+xml"/>
  <Override PartName="/ppt/slides/_rels/slide436.xml.rels" ContentType="application/vnd.openxmlformats-package.relationships+xml"/>
  <Override PartName="/ppt/slides/_rels/slide437.xml.rels" ContentType="application/vnd.openxmlformats-package.relationships+xml"/>
  <Override PartName="/ppt/slides/_rels/slide438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439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280.xml.rels" ContentType="application/vnd.openxmlformats-package.relationships+xml"/>
  <Override PartName="/ppt/slides/_rels/slide176.xml.rels" ContentType="application/vnd.openxmlformats-package.relationships+xml"/>
  <Override PartName="/ppt/slides/_rels/slide446.xml.rels" ContentType="application/vnd.openxmlformats-package.relationships+xml"/>
  <Override PartName="/ppt/slides/_rels/slide447.xml.rels" ContentType="application/vnd.openxmlformats-package.relationships+xml"/>
  <Override PartName="/ppt/slides/_rels/slide448.xml.rels" ContentType="application/vnd.openxmlformats-package.relationships+xml"/>
  <Override PartName="/ppt/slides/_rels/slide449.xml.rels" ContentType="application/vnd.openxmlformats-package.relationships+xml"/>
  <Override PartName="/ppt/slides/_rels/slide290.xml.rels" ContentType="application/vnd.openxmlformats-package.relationships+xml"/>
  <Override PartName="/ppt/slides/_rels/slide311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291.xml.rels" ContentType="application/vnd.openxmlformats-package.relationships+xml"/>
  <Override PartName="/ppt/slides/_rels/slide312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292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459.xml.rels" ContentType="application/vnd.openxmlformats-package.relationships+xml"/>
  <Override PartName="/ppt/slides/_rels/slide310.xml.rels" ContentType="application/vnd.openxmlformats-package.relationships+xml"/>
  <Override PartName="/ppt/slides/_rels/slide206.xml.rels" ContentType="application/vnd.openxmlformats-package.relationships+xml"/>
  <Override PartName="/ppt/slides/_rels/slide88.xml.rels" ContentType="application/vnd.openxmlformats-package.relationships+xml"/>
  <Override PartName="/ppt/slides/_rels/slide384.xml.rels" ContentType="application/vnd.openxmlformats-package.relationships+xml"/>
  <Override PartName="/ppt/slides/_rels/slide410.xml.rels" ContentType="application/vnd.openxmlformats-package.relationships+xml"/>
  <Override PartName="/ppt/slides/_rels/slide405.xml.rels" ContentType="application/vnd.openxmlformats-package.relationships+xml"/>
  <Override PartName="/ppt/slides/_rels/slide93.xml.rels" ContentType="application/vnd.openxmlformats-package.relationships+xml"/>
  <Override PartName="/ppt/slides/_rels/slide320.xml.rels" ContentType="application/vnd.openxmlformats-package.relationships+xml"/>
  <Override PartName="/ppt/slides/_rels/slide24.xml.rels" ContentType="application/vnd.openxmlformats-package.relationships+xml"/>
  <Override PartName="/ppt/slides/_rels/slide89.xml.rels" ContentType="application/vnd.openxmlformats-package.relationships+xml"/>
  <Override PartName="/ppt/slides/_rels/slide390.xml.rels" ContentType="application/vnd.openxmlformats-package.relationships+xml"/>
  <Override PartName="/ppt/slides/_rels/slide385.xml.rels" ContentType="application/vnd.openxmlformats-package.relationships+xml"/>
  <Override PartName="/ppt/slides/_rels/slide411.xml.rels" ContentType="application/vnd.openxmlformats-package.relationships+xml"/>
  <Override PartName="/ppt/slides/_rels/slide94.xml.rels" ContentType="application/vnd.openxmlformats-package.relationships+xml"/>
  <Override PartName="/ppt/slides/_rels/slide406.xml.rels" ContentType="application/vnd.openxmlformats-package.relationships+xml"/>
  <Override PartName="/ppt/slides/_rels/slide321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322.xml.rels" ContentType="application/vnd.openxmlformats-package.relationships+xml"/>
  <Override PartName="/ppt/slides/_rels/slide26.xml.rels" ContentType="application/vnd.openxmlformats-package.relationships+xml"/>
  <Override PartName="/ppt/slides/_rels/slide31.xml.rels" ContentType="application/vnd.openxmlformats-package.relationships+xml"/>
  <Override PartName="/ppt/slides/_rels/slide218.xml.rels" ContentType="application/vnd.openxmlformats-package.relationships+xml"/>
  <Override PartName="/ppt/slides/_rels/slide324.xml.rels" ContentType="application/vnd.openxmlformats-package.relationships+xml"/>
  <Override PartName="/ppt/slides/_rels/slide199.xml.rels" ContentType="application/vnd.openxmlformats-package.relationships+xml"/>
  <Override PartName="/ppt/slides/_rels/slide325.xml.rels" ContentType="application/vnd.openxmlformats-package.relationships+xml"/>
  <Override PartName="/ppt/slides/_rels/slide330.xml.rels" ContentType="application/vnd.openxmlformats-package.relationships+xml"/>
  <Override PartName="/ppt/slides/_rels/slide98.xml.rels" ContentType="application/vnd.openxmlformats-package.relationships+xml"/>
  <Override PartName="/ppt/slides/_rels/slide415.xml.rels" ContentType="application/vnd.openxmlformats-package.relationships+xml"/>
  <Override PartName="/ppt/slides/_rels/slide278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99.xml.rels" ContentType="application/vnd.openxmlformats-package.relationships+xml"/>
  <Override PartName="/ppt/slides/_rels/slide395.xml.rels" ContentType="application/vnd.openxmlformats-package.relationships+xml"/>
  <Override PartName="/ppt/slides/_rels/slide421.xml.rels" ContentType="application/vnd.openxmlformats-package.relationships+xml"/>
  <Override PartName="/ppt/slides/_rels/slide416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331.xml.rels" ContentType="application/vnd.openxmlformats-package.relationships+xml"/>
  <Override PartName="/ppt/slides/_rels/slide332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333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334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335.xml.rels" ContentType="application/vnd.openxmlformats-package.relationships+xml"/>
  <Override PartName="/ppt/slides/_rels/slide340.xml.rels" ContentType="application/vnd.openxmlformats-package.relationships+xml"/>
  <Override PartName="/ppt/slides/_rels/slide44.xml.rels" ContentType="application/vnd.openxmlformats-package.relationships+xml"/>
  <Override PartName="/ppt/slides/_rels/slide39.xml.rels" ContentType="application/vnd.openxmlformats-package.relationships+xml"/>
  <Override PartName="/ppt/slides/_rels/slide433.xml.rels" ContentType="application/vnd.openxmlformats-package.relationships+xml"/>
  <Override PartName="/ppt/slides/_rels/slide428.xml.rels" ContentType="application/vnd.openxmlformats-package.relationships+xml"/>
  <Override PartName="/ppt/slides/_rels/slide343.xml.rels" ContentType="application/vnd.openxmlformats-package.relationships+xml"/>
  <Override PartName="/ppt/slides/_rels/slide338.xml.rels" ContentType="application/vnd.openxmlformats-package.relationships+xml"/>
  <Override PartName="/ppt/slides/_rels/slide434.xml.rels" ContentType="application/vnd.openxmlformats-package.relationships+xml"/>
  <Override PartName="/ppt/slides/_rels/slide429.xml.rels" ContentType="application/vnd.openxmlformats-package.relationships+xml"/>
  <Override PartName="/ppt/slides/_rels/slide17.xml.rels" ContentType="application/vnd.openxmlformats-package.relationships+xml"/>
  <Override PartName="/ppt/slides/_rels/slide313.xml.rels" ContentType="application/vnd.openxmlformats-package.relationships+xml"/>
  <Override PartName="/ppt/slides/_rels/slide308.xml.rels" ContentType="application/vnd.openxmlformats-package.relationships+xml"/>
  <Override PartName="/ppt/slides/_rels/slide344.xml.rels" ContentType="application/vnd.openxmlformats-package.relationships+xml"/>
  <Override PartName="/ppt/slides/_rels/slide288.xml.rels" ContentType="application/vnd.openxmlformats-package.relationships+xml"/>
  <Override PartName="/ppt/slides/_rels/slide314.xml.rels" ContentType="application/vnd.openxmlformats-package.relationships+xml"/>
  <Override PartName="/ppt/slides/_rels/slide18.xml.rels" ContentType="application/vnd.openxmlformats-package.relationships+xml"/>
  <Override PartName="/ppt/slides/_rels/slide309.xml.rels" ContentType="application/vnd.openxmlformats-package.relationships+xml"/>
  <Override PartName="/ppt/slides/_rels/slide443.xml.rels" ContentType="application/vnd.openxmlformats-package.relationships+xml"/>
  <Override PartName="/ppt/slides/_rels/slide339.xml.rels" ContentType="application/vnd.openxmlformats-package.relationships+xml"/>
  <Override PartName="/ppt/slides/_rels/slide398.xml.rels" ContentType="application/vnd.openxmlformats-package.relationships+xml"/>
  <Override PartName="/ppt/slides/_rels/slide424.xml.rels" ContentType="application/vnd.openxmlformats-package.relationships+xml"/>
  <Override PartName="/ppt/slides/_rels/slide419.xml.rels" ContentType="application/vnd.openxmlformats-package.relationships+xml"/>
  <Override PartName="/ppt/slides/_rels/slide295.xml.rels" ContentType="application/vnd.openxmlformats-package.relationships+xml"/>
  <Override PartName="/ppt/slides/_rels/slide420.xml.rels" ContentType="application/vnd.openxmlformats-package.relationships+xml"/>
  <Override PartName="/ppt/slides/_rels/slide316.xml.rels" ContentType="application/vnd.openxmlformats-package.relationships+xml"/>
  <Override PartName="/ppt/slides/_rels/slide303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450.xml.rels" ContentType="application/vnd.openxmlformats-package.relationships+xml"/>
  <Override PartName="/ppt/slides/_rels/slide445.xml.rels" ContentType="application/vnd.openxmlformats-package.relationships+xml"/>
  <Override PartName="/ppt/slides/_rels/slide435.xml.rels" ContentType="application/vnd.openxmlformats-package.relationships+xml"/>
  <Override PartName="/ppt/slides/_rels/slide289.xml.rels" ContentType="application/vnd.openxmlformats-package.relationships+xml"/>
  <Override PartName="/ppt/slides/_rels/slide315.xml.rels" ContentType="application/vnd.openxmlformats-package.relationships+xml"/>
  <Override PartName="/ppt/slides/_rels/slide19.xml.rels" ContentType="application/vnd.openxmlformats-package.relationships+xml"/>
  <Override PartName="/ppt/slides/_rels/slide294.xml.rels" ContentType="application/vnd.openxmlformats-package.relationships+xml"/>
  <Override PartName="/ppt/slides/_rels/slide341.xml.rels" ContentType="application/vnd.openxmlformats-package.relationships+xml"/>
  <Override PartName="/ppt/slides/_rels/slide336.xml.rels" ContentType="application/vnd.openxmlformats-package.relationships+xml"/>
  <Override PartName="/ppt/slides/_rels/slide45.xml.rels" ContentType="application/vnd.openxmlformats-package.relationships+xml"/>
  <Override PartName="/ppt/slides/_rels/slide444.xml.rels" ContentType="application/vnd.openxmlformats-package.relationships+xml"/>
  <Override PartName="/ppt/slides/_rels/slide399.xml.rels" ContentType="application/vnd.openxmlformats-package.relationships+xml"/>
  <Override PartName="/ppt/slides/_rels/slide425.xml.rels" ContentType="application/vnd.openxmlformats-package.relationships+xml"/>
  <Override PartName="/ppt/slides/_rels/slide296.xml.rels" ContentType="application/vnd.openxmlformats-package.relationships+xml"/>
  <Override PartName="/ppt/slides/_rels/slide317.xml.rels" ContentType="application/vnd.openxmlformats-package.relationships+xml"/>
  <Override PartName="/ppt/slides/_rels/slide451.xml.rels" ContentType="application/vnd.openxmlformats-package.relationships+xml"/>
  <Override PartName="/ppt/slides/_rels/slide286.xml.rels" ContentType="application/vnd.openxmlformats-package.relationships+xml"/>
  <Override PartName="/ppt/slides/_rels/slide441.xml.rels" ContentType="application/vnd.openxmlformats-package.relationships+xml"/>
  <Override PartName="/ppt/slides/_rels/slide287.xml.rels" ContentType="application/vnd.openxmlformats-package.relationships+xml"/>
  <Override PartName="/ppt/slides/_rels/slide442.xml.rels" ContentType="application/vnd.openxmlformats-package.relationships+xml"/>
  <Override PartName="/ppt/slides/_rels/slide465.xml.rels" ContentType="application/vnd.openxmlformats-package.relationships+xml"/>
  <Override PartName="/ppt/slides/_rels/slide125.xml.rels" ContentType="application/vnd.openxmlformats-package.relationships+xml"/>
  <Override PartName="/ppt/slides/_rels/slide375.xml.rels" ContentType="application/vnd.openxmlformats-package.relationships+xml"/>
  <Override PartName="/ppt/slides/_rels/slide401.xml.rels" ContentType="application/vnd.openxmlformats-package.relationships+xml"/>
  <Override PartName="/ppt/slides/_rels/slide380.xml.rels" ContentType="application/vnd.openxmlformats-package.relationships+xml"/>
  <Override PartName="/ppt/slides/_rels/slide472.xml.rels" ContentType="application/vnd.openxmlformats-package.relationships+xml"/>
  <Override PartName="/ppt/slides/_rels/slide467.xml.rels" ContentType="application/vnd.openxmlformats-package.relationships+xml"/>
  <Override PartName="/ppt/slides/_rels/slide509.xml.rels" ContentType="application/vnd.openxmlformats-package.relationships+xml"/>
  <Override PartName="/ppt/slides/_rels/slide488.xml.rels" ContentType="application/vnd.openxmlformats-package.relationships+xml"/>
  <Override PartName="/ppt/slides/_rels/slide371.xml.rels" ContentType="application/vnd.openxmlformats-package.relationships+xml"/>
  <Override PartName="/ppt/slides/_rels/slide75.xml.rels" ContentType="application/vnd.openxmlformats-package.relationships+xml"/>
  <Override PartName="/ppt/slides/_rels/slide80.xml.rels" ContentType="application/vnd.openxmlformats-package.relationships+xml"/>
  <Override PartName="/ppt/slides/_rels/slide496.xml.rels" ContentType="application/vnd.openxmlformats-package.relationships+xml"/>
  <Override PartName="/ppt/slides/_rels/slide517.xml.rels" ContentType="application/vnd.openxmlformats-package.relationships+xml"/>
  <Override PartName="/ppt/slides/_rels/slide504.xml.rels" ContentType="application/vnd.openxmlformats-package.relationships+xml"/>
  <Override PartName="/ppt/slides/_rels/slide478.xml.rels" ContentType="application/vnd.openxmlformats-package.relationships+xml"/>
  <Override PartName="/ppt/slides/_rels/slide367.xml.rels" ContentType="application/vnd.openxmlformats-package.relationships+xml"/>
  <Override PartName="/ppt/slides/_rels/slide522.xml.rels" ContentType="application/vnd.openxmlformats-package.relationships+xml"/>
  <Override PartName="/ppt/slides/_rels/slide97.xml.rels" ContentType="application/vnd.openxmlformats-package.relationships+xml"/>
  <Override PartName="/ppt/slides/_rels/slide414.xml.rels" ContentType="application/vnd.openxmlformats-package.relationships+xml"/>
  <Override PartName="/ppt/slides/_rels/slide432.xml.rels" ContentType="application/vnd.openxmlformats-package.relationships+xml"/>
  <Override PartName="/ppt/slides/_rels/slide328.xml.rels" ContentType="application/vnd.openxmlformats-package.relationships+xml"/>
  <Override PartName="/ppt/slides/_rels/slide518.xml.rels" ContentType="application/vnd.openxmlformats-package.relationships+xml"/>
  <Override PartName="/ppt/slides/_rels/slide497.xml.rels" ContentType="application/vnd.openxmlformats-package.relationships+xml"/>
  <Override PartName="/ppt/slides/_rels/slide298.xml.rels" ContentType="application/vnd.openxmlformats-package.relationships+xml"/>
  <Override PartName="/ppt/slides/_rels/slide319.xml.rels" ContentType="application/vnd.openxmlformats-package.relationships+xml"/>
  <Override PartName="/ppt/slides/_rels/slide453.xml.rels" ContentType="application/vnd.openxmlformats-package.relationships+xml"/>
  <Override PartName="/ppt/slides/_rels/slide460.xml.rels" ContentType="application/vnd.openxmlformats-package.relationships+xml"/>
  <Override PartName="/ppt/slides/_rels/slide455.xml.rels" ContentType="application/vnd.openxmlformats-package.relationships+xml"/>
  <Override PartName="/ppt/slides/_rels/slide505.xml.rels" ContentType="application/vnd.openxmlformats-package.relationships+xml"/>
  <Override PartName="/ppt/slides/_rels/slide479.xml.rels" ContentType="application/vnd.openxmlformats-package.relationships+xml"/>
  <Override PartName="/ppt/slides/_rels/slide484.xml.rels" ContentType="application/vnd.openxmlformats-package.relationships+xml"/>
  <Override PartName="/ppt/slides/_rels/slide475.xml.rels" ContentType="application/vnd.openxmlformats-package.relationships+xml"/>
  <Override PartName="/ppt/slides/_rels/slide85.xml.rels" ContentType="application/vnd.openxmlformats-package.relationships+xml"/>
  <Override PartName="/ppt/slides/_rels/slide402.xml.rels" ContentType="application/vnd.openxmlformats-package.relationships+xml"/>
  <Override PartName="/ppt/slides/_rels/slide90.xml.rels" ContentType="application/vnd.openxmlformats-package.relationships+xml"/>
  <Override PartName="/ppt/slides/_rels/slide118.xml.rels" ContentType="application/vnd.openxmlformats-package.relationships+xml"/>
  <Override PartName="/ppt/slides/_rels/slide477.xml.rels" ContentType="application/vnd.openxmlformats-package.relationships+xml"/>
  <Override PartName="/ppt/slides/_rels/slide123.xml.rels" ContentType="application/vnd.openxmlformats-package.relationships+xml"/>
  <Override PartName="/ppt/slides/_rels/slide265.xml.rels" ContentType="application/vnd.openxmlformats-package.relationships+xml"/>
  <Override PartName="/ppt/slides/_rels/slide270.xml.rels" ContentType="application/vnd.openxmlformats-package.relationships+xml"/>
  <Override PartName="/ppt/slides/_rels/slide523.xml.rels" ContentType="application/vnd.openxmlformats-package.relationships+xml"/>
  <Override PartName="/ppt/slides/_rels/slide519.xml.rels" ContentType="application/vnd.openxmlformats-package.relationships+xml"/>
  <Override PartName="/ppt/slides/_rels/slide498.xml.rels" ContentType="application/vnd.openxmlformats-package.relationships+xml"/>
  <Override PartName="/ppt/slides/_rels/slide299.xml.rels" ContentType="application/vnd.openxmlformats-package.relationships+xml"/>
  <Override PartName="/ppt/slides/_rels/slide351.xml.rels" ContentType="application/vnd.openxmlformats-package.relationships+xml"/>
  <Override PartName="/ppt/slides/_rels/slide346.xml.rels" ContentType="application/vnd.openxmlformats-package.relationships+xml"/>
  <Override PartName="/ppt/slides/_rels/slide55.xml.rels" ContentType="application/vnd.openxmlformats-package.relationships+xml"/>
  <Override PartName="/ppt/slides/_rels/slide454.xml.rels" ContentType="application/vnd.openxmlformats-package.relationships+xml"/>
  <Override PartName="/ppt/slides/_rels/slide461.xml.rels" ContentType="application/vnd.openxmlformats-package.relationships+xml"/>
  <Override PartName="/ppt/slides/_rels/slide456.xml.rels" ContentType="application/vnd.openxmlformats-package.relationships+xml"/>
  <Override PartName="/ppt/slides/_rels/slide323.xml.rels" ContentType="application/vnd.openxmlformats-package.relationships+xml"/>
  <Override PartName="/ppt/slides/_rels/slide32.xml.rels" ContentType="application/vnd.openxmlformats-package.relationships+xml"/>
  <Override PartName="/ppt/slides/_rels/slide219.xml.rels" ContentType="application/vnd.openxmlformats-package.relationships+xml"/>
  <Override PartName="/ppt/slides/_rels/slide470.xml.rels" ContentType="application/vnd.openxmlformats-package.relationships+xml"/>
  <Override PartName="/ppt/slides/_rels/slide366.xml.rels" ContentType="application/vnd.openxmlformats-package.relationships+xml"/>
  <Override PartName="/ppt/slides/_rels/slide27.xml.rels" ContentType="application/vnd.openxmlformats-package.relationships+xml"/>
  <Override PartName="/ppt/slides/_rels/slide457.xml.rels" ContentType="application/vnd.openxmlformats-package.relationships+xml"/>
  <Override PartName="/ppt/slides/_rels/slide462.xml.rels" ContentType="application/vnd.openxmlformats-package.relationships+xml"/>
  <Override PartName="/ppt/slides/_rels/slide354.xml.rels" ContentType="application/vnd.openxmlformats-package.relationships+xml"/>
  <Override PartName="/ppt/slides/_rels/slide349.xml.rels" ContentType="application/vnd.openxmlformats-package.relationships+xml"/>
  <Override PartName="/ppt/slides/_rels/slide364.xml.rels" ContentType="application/vnd.openxmlformats-package.relationships+xml"/>
  <Override PartName="/ppt/slides/_rels/slide68.xml.rels" ContentType="application/vnd.openxmlformats-package.relationships+xml"/>
  <Override PartName="/ppt/slides/_rels/slide359.xml.rels" ContentType="application/vnd.openxmlformats-package.relationships+xml"/>
  <Override PartName="/ppt/slides/_rels/slide29.xml.rels" ContentType="application/vnd.openxmlformats-package.relationships+xml"/>
  <Override PartName="/ppt/slides/_rels/slide511.xml.rels" ContentType="application/vnd.openxmlformats-package.relationships+xml"/>
  <Override PartName="/ppt/slides/_rels/slide490.xml.rels" ContentType="application/vnd.openxmlformats-package.relationships+xml"/>
  <Override PartName="/ppt/slides/_rels/slide499.xml.rels" ContentType="application/vnd.openxmlformats-package.relationships+xml"/>
  <Override PartName="/ppt/slides/_rels/slide388.xml.rels" ContentType="application/vnd.openxmlformats-package.relationships+xml"/>
  <Override PartName="/ppt/slides/_rels/slide393.xml.rels" ContentType="application/vnd.openxmlformats-package.relationships+xml"/>
  <Override PartName="/ppt/slides/_rels/slide285.xml.rels" ContentType="application/vnd.openxmlformats-package.relationships+xml"/>
  <Override PartName="/ppt/slides/_rels/slide306.xml.rels" ContentType="application/vnd.openxmlformats-package.relationships+xml"/>
  <Override PartName="/ppt/slides/_rels/slide440.xml.rels" ContentType="application/vnd.openxmlformats-package.relationships+xml"/>
  <Override PartName="/ppt/slides/_rels/slide350.xml.rels" ContentType="application/vnd.openxmlformats-package.relationships+xml"/>
  <Override PartName="/ppt/slides/_rels/slide246.xml.rels" ContentType="application/vnd.openxmlformats-package.relationships+xml"/>
  <Override PartName="/ppt/slides/_rels/slide352.xml.rels" ContentType="application/vnd.openxmlformats-package.relationships+xml"/>
  <Override PartName="/ppt/slides/_rels/slide347.xml.rels" ContentType="application/vnd.openxmlformats-package.relationships+xml"/>
  <Override PartName="/ppt/slides/_rels/slide56.xml.rels" ContentType="application/vnd.openxmlformats-package.relationships+xml"/>
  <Override PartName="/ppt/slides/_rels/slide520.xml.rels" ContentType="application/vnd.openxmlformats-package.relationships+xml"/>
  <Override PartName="/ppt/slides/_rels/slide515.xml.rels" ContentType="application/vnd.openxmlformats-package.relationships+xml"/>
  <Override PartName="/ppt/slides/_rels/slide494.xml.rels" ContentType="application/vnd.openxmlformats-package.relationships+xml"/>
  <Override PartName="/ppt/slides/_rels/slide468.xml.rels" ContentType="application/vnd.openxmlformats-package.relationships+xml"/>
  <Override PartName="/ppt/slides/_rels/slide473.xml.rels" ContentType="application/vnd.openxmlformats-package.relationships+xml"/>
  <Override PartName="/ppt/slides/_rels/slide365.xml.rels" ContentType="application/vnd.openxmlformats-package.relationships+xml"/>
  <Override PartName="/ppt/slides/_rels/slide69.xml.rels" ContentType="application/vnd.openxmlformats-package.relationships+xml"/>
  <Override PartName="/ppt/slides/_rels/slide357.xml.rels" ContentType="application/vnd.openxmlformats-package.relationships+xml"/>
  <Override PartName="/ppt/slides/_rels/slide66.xml.rels" ContentType="application/vnd.openxmlformats-package.relationships+xml"/>
  <Override PartName="/ppt/slides/_rels/slide512.xml.rels" ContentType="application/vnd.openxmlformats-package.relationships+xml"/>
  <Override PartName="/ppt/slides/_rels/slide491.xml.rels" ContentType="application/vnd.openxmlformats-package.relationships+xml"/>
  <Override PartName="/ppt/slides/_rels/slide408.xml.rels" ContentType="application/vnd.openxmlformats-package.relationships+xml"/>
  <Override PartName="/ppt/slides/_rels/slide503.xml.rels" ContentType="application/vnd.openxmlformats-package.relationships+xml"/>
  <Override PartName="/ppt/slides/_rels/slide12.xml.rels" ContentType="application/vnd.openxmlformats-package.relationships+xml"/>
  <Override PartName="/ppt/slides/_rels/slide243.xml.rels" ContentType="application/vnd.openxmlformats-package.relationships+xml"/>
  <Override PartName="/ppt/slides/_rels/slide51.xml.rels" ContentType="application/vnd.openxmlformats-package.relationships+xml"/>
  <Override PartName="/ppt/slides/_rels/slide238.xml.rels" ContentType="application/vnd.openxmlformats-package.relationships+xml"/>
  <Override PartName="/ppt/slides/_rels/slide58.xml.rels" ContentType="application/vnd.openxmlformats-package.relationships+xml"/>
  <Override PartName="/ppt/slides/_rels/slide10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244.xml.rels" ContentType="application/vnd.openxmlformats-package.relationships+xml"/>
  <Override PartName="/ppt/slides/_rels/slide239.xml.rels" ContentType="application/vnd.openxmlformats-package.relationships+xml"/>
  <Override PartName="/ppt/slides/_rels/slide59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245.xml.rels" ContentType="application/vnd.openxmlformats-package.relationships+xml"/>
  <Override PartName="/ppt/slides/_rels/slide65.xml.rels" ContentType="application/vnd.openxmlformats-package.relationships+xml"/>
  <Override PartName="/ppt/slides/_rels/slide374.xml.rels" ContentType="application/vnd.openxmlformats-package.relationships+xml"/>
  <Override PartName="/ppt/slides/_rels/slide400.xml.rels" ContentType="application/vnd.openxmlformats-package.relationships+xml"/>
  <Override PartName="/ppt/slides/_rels/slide369.xml.rels" ContentType="application/vnd.openxmlformats-package.relationships+xml"/>
  <Override PartName="/ppt/slides/_rels/slide524.xml.rels" ContentType="application/vnd.openxmlformats-package.relationships+xml"/>
  <Override PartName="/ppt/slides/_rels/slide61.xml.rels" ContentType="application/vnd.openxmlformats-package.relationships+xml"/>
  <Override PartName="/ppt/slides/_rels/slide73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2.xml.rels" ContentType="application/vnd.openxmlformats-package.relationships+xml"/>
  <Override PartName="/ppt/slides/_rels/slide130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46.xml.rels" ContentType="application/vnd.openxmlformats-package.relationships+xml"/>
  <Override PartName="/ppt/slides/_rels/slide254.xml.rels" ContentType="application/vnd.openxmlformats-package.relationships+xml"/>
  <Override PartName="/ppt/slides/_rels/slide112.xml.rels" ContentType="application/vnd.openxmlformats-package.relationships+xml"/>
  <Override PartName="/ppt/slides/_rels/slide107.xml.rels" ContentType="application/vnd.openxmlformats-package.relationships+xml"/>
  <Override PartName="/ppt/slides/_rels/slide157.xml.rels" ContentType="application/vnd.openxmlformats-package.relationships+xml"/>
  <Override PartName="/ppt/slides/_rels/slide162.xml.rels" ContentType="application/vnd.openxmlformats-package.relationships+xml"/>
  <Override PartName="/ppt/slides/_rels/slide6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133.xml.rels" ContentType="application/vnd.openxmlformats-package.relationships+xml"/>
  <Override PartName="/ppt/slides/_rels/slide129.xml.rels" ContentType="application/vnd.openxmlformats-package.relationships+xml"/>
  <Override PartName="/ppt/slides/_rels/slide168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38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20.xml.rels" ContentType="application/vnd.openxmlformats-package.relationships+xml"/>
  <Override PartName="/ppt/slides/_rels/slide200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1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180.xml.rels" ContentType="application/vnd.openxmlformats-package.relationships+xml"/>
  <Override PartName="/ppt/slides/_rels/slide201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159.xml.rels" ContentType="application/vnd.openxmlformats-package.relationships+xml"/>
  <Override PartName="/ppt/slides/_rels/slide185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31.xml.rels" ContentType="application/vnd.openxmlformats-package.relationships+xml"/>
  <Override PartName="/ppt/slides/_rels/slide329.xml.rels" ContentType="application/vnd.openxmlformats-package.relationships+xml"/>
  <Override PartName="/ppt/slides/_rels/slide368.xml.rels" ContentType="application/vnd.openxmlformats-package.relationships+xml"/>
  <Override PartName="/ppt/slides/_rels/slide166.xml.rels" ContentType="application/vnd.openxmlformats-package.relationships+xml"/>
  <Override PartName="/ppt/slides/_rels/slide134.xml.rels" ContentType="application/vnd.openxmlformats-package.relationships+xml"/>
  <Override PartName="/ppt/slides/_rels/slide224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2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249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212.xml.rels" ContentType="application/vnd.openxmlformats-package.relationships+xml"/>
  <Override PartName="/ppt/slides/_rels/slide183.xml.rels" ContentType="application/vnd.openxmlformats-package.relationships+xml"/>
  <Override PartName="/ppt/slides/_rels/slide204.xml.rels" ContentType="application/vnd.openxmlformats-package.relationships+xml"/>
  <Override PartName="/ppt/slides/_rels/slide101.xml.rels" ContentType="application/vnd.openxmlformats-package.relationships+xml"/>
  <Override PartName="/ppt/slides/_rels/slide3.xml.rels" ContentType="application/vnd.openxmlformats-package.relationships+xml"/>
  <Override PartName="/ppt/slides/_rels/slide234.xml.rels" ContentType="application/vnd.openxmlformats-package.relationships+xml"/>
  <Override PartName="/ppt/slides/_rels/slide229.xml.rels" ContentType="application/vnd.openxmlformats-package.relationships+xml"/>
  <Override PartName="/ppt/slides/_rels/slide136.xml.rels" ContentType="application/vnd.openxmlformats-package.relationships+xml"/>
  <Override PartName="/ppt/slides/_rels/slide240.xml.rels" ContentType="application/vnd.openxmlformats-package.relationships+xml"/>
  <Override PartName="/ppt/slides/_rels/slide60.xml.rels" ContentType="application/vnd.openxmlformats-package.relationships+xml"/>
  <Override PartName="/ppt/slides/_rels/slide236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24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247.xml.rels" ContentType="application/vnd.openxmlformats-package.relationships+xml"/>
  <Override PartName="/ppt/slides/_rels/slide394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250.xml.rels" ContentType="application/vnd.openxmlformats-package.relationships+xml"/>
  <Override PartName="/ppt/slides/_rels/slide198.xml.rels" ContentType="application/vnd.openxmlformats-package.relationships+xml"/>
  <Override PartName="/ppt/slides/_rels/slide103.xml.rels" ContentType="application/vnd.openxmlformats-package.relationships+xml"/>
  <Override PartName="/ppt/slides/_rels/slide225.xml.rels" ContentType="application/vnd.openxmlformats-package.relationships+xml"/>
  <Override PartName="/ppt/slides/_rels/slide83.xml.rels" ContentType="application/vnd.openxmlformats-package.relationships+xml"/>
  <Override PartName="/ppt/slides/_rels/slide235.xml.rels" ContentType="application/vnd.openxmlformats-package.relationships+xml"/>
  <Override PartName="/ppt/slides/_rels/slide63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167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74.xml.rels" ContentType="application/vnd.openxmlformats-package.relationships+xml"/>
  <Override PartName="/ppt/slides/_rels/slide370.xml.rels" ContentType="application/vnd.openxmlformats-package.relationships+xml"/>
  <Override PartName="/ppt/slides/_rels/slide141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94.xml.rels" ContentType="application/vnd.openxmlformats-package.relationships+xml"/>
  <Override PartName="/ppt/slides/_rels/slide22.xml.rels" ContentType="application/vnd.openxmlformats-package.relationships+xml"/>
  <Override PartName="/ppt/slides/_rels/slide184.xml.rels" ContentType="application/vnd.openxmlformats-package.relationships+xml"/>
  <Override PartName="/ppt/slides/_rels/slide205.xml.rels" ContentType="application/vnd.openxmlformats-package.relationships+xml"/>
  <Override PartName="/ppt/slides/_rels/slide210.xml.rels" ContentType="application/vnd.openxmlformats-package.relationships+xml"/>
  <Override PartName="/ppt/slides/_rels/slide196.xml.rels" ContentType="application/vnd.openxmlformats-package.relationships+xml"/>
  <Override PartName="/ppt/slides/_rels/slide222.xml.rels" ContentType="application/vnd.openxmlformats-package.relationships+xml"/>
  <Override PartName="/ppt/slides/_rels/slide217.xml.rels" ContentType="application/vnd.openxmlformats-package.relationships+xml"/>
  <Override PartName="/ppt/slides/_rels/slide178.xml.rels" ContentType="application/vnd.openxmlformats-package.relationships+xml"/>
  <Override PartName="/ppt/slides/_rels/slide172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77.xml.rels" ContentType="application/vnd.openxmlformats-package.relationships+xml"/>
  <Override PartName="/ppt/slides/_rels/slide175.xml.rels" ContentType="application/vnd.openxmlformats-package.relationships+xml"/>
  <Override PartName="/ppt/slides/_rels/slide195.xml.rels" ContentType="application/vnd.openxmlformats-package.relationships+xml"/>
  <Override PartName="/ppt/slides/_rels/slide216.xml.rels" ContentType="application/vnd.openxmlformats-package.relationships+xml"/>
  <Override PartName="/ppt/slides/_rels/slide22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158.xml.rels" ContentType="application/vnd.openxmlformats-package.relationships+xml"/>
  <Override PartName="/ppt/slides/_rels/slide163.xml.rels" ContentType="application/vnd.openxmlformats-package.relationships+xml"/>
  <Override PartName="/ppt/slides/_rels/slide7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14.xml.rels" ContentType="application/vnd.openxmlformats-package.relationships+xml"/>
  <Override PartName="/ppt/slides/_rels/slide482.xml.rels" ContentType="application/vnd.openxmlformats-package.relationships+xml"/>
  <Override PartName="/ppt/slides/_rels/slide378.xml.rels" ContentType="application/vnd.openxmlformats-package.relationships+xml"/>
  <Override PartName="/ppt/slides/_rels/slide154.xml.rels" ContentType="application/vnd.openxmlformats-package.relationships+xml"/>
  <Override PartName="/ppt/slides/_rels/slide15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483.xml.rels" ContentType="application/vnd.openxmlformats-package.relationships+xml"/>
  <Override PartName="/ppt/slides/_rels/slide379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307.xml.rels" ContentType="application/vnd.openxmlformats-package.relationships+xml"/>
  <Override PartName="/ppt/slides/_rels/slide16.xml.rels" ContentType="application/vnd.openxmlformats-package.relationships+xml"/>
  <Override PartName="/ppt/slides/_rels/slide84.xml.rels" ContentType="application/vnd.openxmlformats-package.relationships+xml"/>
  <Override PartName="/ppt/slides/_rels/slide160.xml.rels" ContentType="application/vnd.openxmlformats-package.relationships+xml"/>
  <Override PartName="/ppt/slides/_rels/slide5.xml.rels" ContentType="application/vnd.openxmlformats-package.relationships+xml"/>
  <Override PartName="/ppt/slides/_rels/slide161.xml.rels" ContentType="application/vnd.openxmlformats-package.relationships+xml"/>
  <Override PartName="/ppt/slides/_rels/slide156.xml.rels" ContentType="application/vnd.openxmlformats-package.relationships+xml"/>
  <Override PartName="/ppt/slides/_rels/slide120.xml.rels" ContentType="application/vnd.openxmlformats-package.relationships+xml"/>
  <Override PartName="/ppt/slides/_rels/slide259.xml.rels" ContentType="application/vnd.openxmlformats-package.relationships+xml"/>
  <Override PartName="/ppt/slides/_rels/slide121.xml.rels" ContentType="application/vnd.openxmlformats-package.relationships+xml"/>
  <Override PartName="/ppt/slides/_rels/slide356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171.xml.rels" ContentType="application/vnd.openxmlformats-package.relationships+xml"/>
  <Override PartName="/ppt/slides/_rels/slide54.xml.rels" ContentType="application/vnd.openxmlformats-package.relationships+xml"/>
  <Override PartName="/ppt/slides/_rels/slide49.xml.rels" ContentType="application/vnd.openxmlformats-package.relationships+xml"/>
  <Override PartName="/ppt/slides/_rels/slide345.xml.rels" ContentType="application/vnd.openxmlformats-package.relationships+xml"/>
  <Override PartName="/ppt/slides/_rels/slide79.xml.rels" ContentType="application/vnd.openxmlformats-package.relationships+xml"/>
  <Override PartName="/ppt/slides/_rels/slide500.xml.rels" ContentType="application/vnd.openxmlformats-package.relationships+xml"/>
  <Override PartName="/ppt/slides/_rels/slide348.xml.rels" ContentType="application/vnd.openxmlformats-package.relationships+xml"/>
  <Override PartName="/ppt/slides/_rels/slide57.xml.rels" ContentType="application/vnd.openxmlformats-package.relationships+xml"/>
  <Override PartName="/ppt/slides/_rels/slide353.xml.rels" ContentType="application/vnd.openxmlformats-package.relationships+xml"/>
  <Override PartName="/ppt/slides/_rels/slide355.xml.rels" ContentType="application/vnd.openxmlformats-package.relationships+xml"/>
  <Override PartName="/ppt/slides/_rels/slide510.xml.rels" ContentType="application/vnd.openxmlformats-package.relationships+xml"/>
  <Override PartName="/ppt/slides/_rels/slide28.xml.rels" ContentType="application/vnd.openxmlformats-package.relationships+xml"/>
  <Override PartName="/ppt/slides/_rels/slide360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361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391.xml.rels" ContentType="application/vnd.openxmlformats-package.relationships+xml"/>
  <Override PartName="/ppt/slides/_rels/slide386.xml.rels" ContentType="application/vnd.openxmlformats-package.relationships+xml"/>
  <Override PartName="/ppt/slides/_rels/slide95.xml.rels" ContentType="application/vnd.openxmlformats-package.relationships+xml"/>
  <Override PartName="/ppt/slides/_rels/slide407.xml.rels" ContentType="application/vnd.openxmlformats-package.relationships+xml"/>
  <Override PartName="/ppt/slides/_rels/slide412.xml.rels" ContentType="application/vnd.openxmlformats-package.relationships+xml"/>
  <Override PartName="/ppt/slides/_rels/slide77.xml.rels" ContentType="application/vnd.openxmlformats-package.relationships+xml"/>
  <Override PartName="/ppt/slides/_rels/slide492.xml.rels" ContentType="application/vnd.openxmlformats-package.relationships+xml"/>
  <Override PartName="/ppt/slides/_rels/slide409.xml.rels" ContentType="application/vnd.openxmlformats-package.relationships+xml"/>
  <Override PartName="/ppt/slides/_rels/slide513.xml.rels" ContentType="application/vnd.openxmlformats-package.relationships+xml"/>
  <Override PartName="/ppt/slides/_rels/slide363.xml.rels" ContentType="application/vnd.openxmlformats-package.relationships+xml"/>
  <Override PartName="/ppt/slides/_rels/slide67.xml.rels" ContentType="application/vnd.openxmlformats-package.relationships+xml"/>
  <Override PartName="/ppt/slides/_rels/slide358.xml.rels" ContentType="application/vnd.openxmlformats-package.relationships+xml"/>
  <Override PartName="/ppt/slides/_rels/slide526.xml.rels" ContentType="application/vnd.openxmlformats-package.relationships+xml"/>
  <Override PartName="/ppt/slides/_rels/slide423.xml.rels" ContentType="application/vnd.openxmlformats-package.relationships+xml"/>
  <Override PartName="/ppt/slides/_rels/slide418.xml.rels" ContentType="application/vnd.openxmlformats-package.relationships+xml"/>
  <Override PartName="/ppt/slides/_rels/slide397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527.xml.rels" ContentType="application/vnd.openxmlformats-package.relationships+xml"/>
  <Override PartName="/ppt/slides/_rels/slide373.xml.rels" ContentType="application/vnd.openxmlformats-package.relationships+xml"/>
  <Override PartName="/ppt/slides/_rels/slide269.xml.rels" ContentType="application/vnd.openxmlformats-package.relationships+xml"/>
  <Override PartName="/ppt/slides/_rels/slide82.xml.rels" ContentType="application/vnd.openxmlformats-package.relationships+xml"/>
  <Override PartName="/ppt/slides/_rels/slide396.xml.rels" ContentType="application/vnd.openxmlformats-package.relationships+xml"/>
  <Override PartName="/ppt/slides/_rels/slide417.xml.rels" ContentType="application/vnd.openxmlformats-package.relationships+xml"/>
  <Override PartName="/ppt/slides/_rels/slide422.xml.rels" ContentType="application/vnd.openxmlformats-package.relationships+xml"/>
  <Override PartName="/ppt/slides/_rels/slide525.xml.rels" ContentType="application/vnd.openxmlformats-package.relationships+xml"/>
  <Override PartName="/ppt/slides/_rels/slide495.xml.rels" ContentType="application/vnd.openxmlformats-package.relationships+xml"/>
  <Override PartName="/ppt/slides/_rels/slide521.xml.rels" ContentType="application/vnd.openxmlformats-package.relationships+xml"/>
  <Override PartName="/ppt/slides/_rels/slide431.xml.rels" ContentType="application/vnd.openxmlformats-package.relationships+xml"/>
  <Override PartName="/ppt/slides/_rels/slide327.xml.rels" ContentType="application/vnd.openxmlformats-package.relationships+xml"/>
  <Override PartName="/ppt/slides/_rels/slide469.xml.rels" ContentType="application/vnd.openxmlformats-package.relationships+xml"/>
  <Override PartName="/ppt/slides/_rels/slide474.xml.rels" ContentType="application/vnd.openxmlformats-package.relationships+xml"/>
  <Override PartName="/ppt/slides/_rels/slide516.xml.rels" ContentType="application/vnd.openxmlformats-package.relationships+xml"/>
  <Override PartName="/ppt/slides/_rels/slide430.xml.rels" ContentType="application/vnd.openxmlformats-package.relationships+xml"/>
  <Override PartName="/ppt/slides/_rels/slide326.xml.rels" ContentType="application/vnd.openxmlformats-package.relationships+xml"/>
  <Override PartName="/ppt/slides/_rels/slide501.xml.rels" ContentType="application/vnd.openxmlformats-package.relationships+xml"/>
  <Override PartName="/ppt/slides/_rels/slide480.xml.rels" ContentType="application/vnd.openxmlformats-package.relationships+xml"/>
  <Override PartName="/ppt/slides/_rels/slide376.xml.rels" ContentType="application/vnd.openxmlformats-package.relationships+xml"/>
  <Override PartName="/ppt/slides/_rels/slide427.xml.rels" ContentType="application/vnd.openxmlformats-package.relationships+xml"/>
  <Override PartName="/ppt/slides/_rels/slide502.xml.rels" ContentType="application/vnd.openxmlformats-package.relationships+xml"/>
  <Override PartName="/ppt/slides/_rels/slide481.xml.rels" ContentType="application/vnd.openxmlformats-package.relationships+xml"/>
  <Override PartName="/ppt/slides/_rels/slide377.xml.rels" ContentType="application/vnd.openxmlformats-package.relationships+xml"/>
  <Override PartName="/ppt/slides/_rels/slide489.xml.rels" ContentType="application/vnd.openxmlformats-package.relationships+xml"/>
  <Override PartName="/ppt/slides/_rels/slide362.xml.rels" ContentType="application/vnd.openxmlformats-package.relationships+xml"/>
  <Override PartName="/ppt/slides/_rels/slide258.xml.rels" ContentType="application/vnd.openxmlformats-package.relationships+xml"/>
  <Override PartName="/ppt/slides/_rels/slide392.xml.rels" ContentType="application/vnd.openxmlformats-package.relationships+xml"/>
  <Override PartName="/ppt/slides/_rels/slide387.xml.rels" ContentType="application/vnd.openxmlformats-package.relationships+xml"/>
  <Override PartName="/ppt/slides/_rels/slide413.xml.rels" ContentType="application/vnd.openxmlformats-package.relationships+xml"/>
  <Override PartName="/ppt/slides/_rels/slide78.xml.rels" ContentType="application/vnd.openxmlformats-package.relationships+xml"/>
  <Override PartName="/ppt/slides/_rels/slide452.xml.rels" ContentType="application/vnd.openxmlformats-package.relationships+xml"/>
  <Override PartName="/ppt/slides/_rels/slide297.xml.rels" ContentType="application/vnd.openxmlformats-package.relationships+xml"/>
  <Override PartName="/ppt/slides/_rels/slide318.xml.rels" ContentType="application/vnd.openxmlformats-package.relationships+xml"/>
  <Override PartName="/ppt/slides/_rels/slide471.xml.rels" ContentType="application/vnd.openxmlformats-package.relationships+xml"/>
  <Override PartName="/ppt/slides/_rels/slide466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419.xml" ContentType="application/vnd.openxmlformats-officedocument.presentationml.slide+xml"/>
  <Override PartName="/ppt/slides/slide252.xml" ContentType="application/vnd.openxmlformats-officedocument.presentationml.slide+xml"/>
  <Override PartName="/ppt/slides/slide418.xml" ContentType="application/vnd.openxmlformats-officedocument.presentationml.slide+xml"/>
  <Override PartName="/ppt/slides/slide251.xml" ContentType="application/vnd.openxmlformats-officedocument.presentationml.slide+xml"/>
  <Override PartName="/ppt/slides/slide379.xml" ContentType="application/vnd.openxmlformats-officedocument.presentationml.slide+xml"/>
  <Override PartName="/ppt/slides/slide417.xml" ContentType="application/vnd.openxmlformats-officedocument.presentationml.slide+xml"/>
  <Override PartName="/ppt/slides/slide250.xml" ContentType="application/vnd.openxmlformats-officedocument.presentationml.slide+xml"/>
  <Override PartName="/ppt/slides/slide378.xml" ContentType="application/vnd.openxmlformats-officedocument.presentationml.slide+xml"/>
  <Override PartName="/ppt/slides/slide416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359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358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349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348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6.xml" ContentType="application/vnd.openxmlformats-officedocument.presentationml.slide+xml"/>
  <Override PartName="/ppt/slides/slide40.xml" ContentType="application/vnd.openxmlformats-officedocument.presentationml.slide+xml"/>
  <Override PartName="/ppt/slides/slide168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201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0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159.xml" ContentType="application/vnd.openxmlformats-officedocument.presentationml.slide+xml"/>
  <Override PartName="/ppt/slides/slide31.xml" ContentType="application/vnd.openxmlformats-officedocument.presentationml.slide+xml"/>
  <Override PartName="/ppt/slides/slide158.xml" ContentType="application/vnd.openxmlformats-officedocument.presentationml.slide+xml"/>
  <Override PartName="/ppt/slides/slide30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49.xml" ContentType="application/vnd.openxmlformats-officedocument.presentationml.slide+xml"/>
  <Override PartName="/ppt/slides/slide21.xml" ContentType="application/vnd.openxmlformats-officedocument.presentationml.slide+xml"/>
  <Override PartName="/ppt/slides/slide148.xml" ContentType="application/vnd.openxmlformats-officedocument.presentationml.slide+xml"/>
  <Override PartName="/ppt/slides/slide20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9.xml" ContentType="application/vnd.openxmlformats-officedocument.presentationml.slide+xml"/>
  <Override PartName="/ppt/slides/slide11.xml" ContentType="application/vnd.openxmlformats-officedocument.presentationml.slide+xml"/>
  <Override PartName="/ppt/slides/slide138.xml" ContentType="application/vnd.openxmlformats-officedocument.presentationml.slide+xml"/>
  <Override PartName="/ppt/slides/slide10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129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318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317.xml" ContentType="application/vnd.openxmlformats-officedocument.presentationml.slide+xml"/>
  <Override PartName="/ppt/slides/slide55.xml" ContentType="application/vnd.openxmlformats-officedocument.presentationml.slide+xml"/>
  <Override PartName="/ppt/slides/slide150.xml" ContentType="application/vnd.openxmlformats-officedocument.presentationml.slide+xml"/>
  <Override PartName="/ppt/slides/slide316.xml" ContentType="application/vnd.openxmlformats-officedocument.presentationml.slide+xml"/>
  <Override PartName="/ppt/slides/slide54.xml" ContentType="application/vnd.openxmlformats-officedocument.presentationml.slide+xml"/>
  <Override PartName="/ppt/slides/slide142.xml" ContentType="application/vnd.openxmlformats-officedocument.presentationml.slide+xml"/>
  <Override PartName="/ppt/slides/slide308.xml" ContentType="application/vnd.openxmlformats-officedocument.presentationml.slide+xml"/>
  <Override PartName="/ppt/slides/slide46.xml" ContentType="application/vnd.openxmlformats-officedocument.presentationml.slide+xml"/>
  <Override PartName="/ppt/slides/slide141.xml" ContentType="application/vnd.openxmlformats-officedocument.presentationml.slide+xml"/>
  <Override PartName="/ppt/slides/slide307.xml" ContentType="application/vnd.openxmlformats-officedocument.presentationml.slide+xml"/>
  <Override PartName="/ppt/slides/slide45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242.xml" ContentType="application/vnd.openxmlformats-officedocument.presentationml.slide+xml"/>
  <Override PartName="/ppt/slides/slide408.xml" ContentType="application/vnd.openxmlformats-officedocument.presentationml.slide+xml"/>
  <Override PartName="/ppt/slides/slide6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241.xml" ContentType="application/vnd.openxmlformats-officedocument.presentationml.slide+xml"/>
  <Override PartName="/ppt/slides/slide369.xml" ContentType="application/vnd.openxmlformats-officedocument.presentationml.slide+xml"/>
  <Override PartName="/ppt/slides/slide407.xml" ContentType="application/vnd.openxmlformats-officedocument.presentationml.slide+xml"/>
  <Override PartName="/ppt/slides/slide5.xml" ContentType="application/vnd.openxmlformats-officedocument.presentationml.slide+xml"/>
  <Override PartName="/ppt/slides/slide140.xml" ContentType="application/vnd.openxmlformats-officedocument.presentationml.slide+xml"/>
  <Override PartName="/ppt/slides/slide306.xml" ContentType="application/vnd.openxmlformats-officedocument.presentationml.slide+xml"/>
  <Override PartName="/ppt/slides/slide44.xml" ContentType="application/vnd.openxmlformats-officedocument.presentationml.slide+xml"/>
  <Override PartName="/ppt/slides/slide245.xml" ContentType="application/vnd.openxmlformats-officedocument.presentationml.slide+xml"/>
  <Override PartName="/ppt/slides/slide9.xml" ContentType="application/vnd.openxmlformats-officedocument.presentationml.slide+xml"/>
  <Override PartName="/ppt/slides/slide381.xml" ContentType="application/vnd.openxmlformats-officedocument.presentationml.slide+xml"/>
  <Override PartName="/ppt/slides/slide13.xml" ContentType="application/vnd.openxmlformats-officedocument.presentationml.slide+xml"/>
  <Override PartName="/ppt/slides/slide481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240.xml" ContentType="application/vnd.openxmlformats-officedocument.presentationml.slide+xml"/>
  <Override PartName="/ppt/slides/slide368.xml" ContentType="application/vnd.openxmlformats-officedocument.presentationml.slide+xml"/>
  <Override PartName="/ppt/slides/slide406.xml" ContentType="application/vnd.openxmlformats-officedocument.presentationml.slide+xml"/>
  <Override PartName="/ppt/slides/slide4.xml" ContentType="application/vnd.openxmlformats-officedocument.presentationml.slide+xml"/>
  <Override PartName="/ppt/slides/slide244.xml" ContentType="application/vnd.openxmlformats-officedocument.presentationml.slide+xml"/>
  <Override PartName="/ppt/slides/slide8.xml" ContentType="application/vnd.openxmlformats-officedocument.presentationml.slide+xml"/>
  <Override PartName="/ppt/slides/slide380.xml" ContentType="application/vnd.openxmlformats-officedocument.presentationml.slide+xml"/>
  <Override PartName="/ppt/slides/slide12.xml" ContentType="application/vnd.openxmlformats-officedocument.presentationml.slide+xml"/>
  <Override PartName="/ppt/slides/slide480.xml" ContentType="application/vnd.openxmlformats-officedocument.presentationml.slide+xml"/>
  <Override PartName="/ppt/slides/slide143.xml" ContentType="application/vnd.openxmlformats-officedocument.presentationml.slide+xml"/>
  <Override PartName="/ppt/slides/slide309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243.xml" ContentType="application/vnd.openxmlformats-officedocument.presentationml.slide+xml"/>
  <Override PartName="/ppt/slides/slide409.xml" ContentType="application/vnd.openxmlformats-officedocument.presentationml.slide+xml"/>
  <Override PartName="/ppt/slides/slide7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319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482.xml" ContentType="application/vnd.openxmlformats-officedocument.presentationml.slide+xml"/>
  <Override PartName="/ppt/slides/slide11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483.xml" ContentType="application/vnd.openxmlformats-officedocument.presentationml.slide+xml"/>
  <Override PartName="/ppt/slides/slide11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80.xml" ContentType="application/vnd.openxmlformats-officedocument.presentationml.slide+xml"/>
  <Override PartName="/ppt/slides/slide346.xml" ContentType="application/vnd.openxmlformats-officedocument.presentationml.slide+xml"/>
  <Override PartName="/ppt/slides/slide16.xml" ContentType="application/vnd.openxmlformats-officedocument.presentationml.slide+xml"/>
  <Override PartName="/ppt/slides/slide484.xml" ContentType="application/vnd.openxmlformats-officedocument.presentationml.slide+xml"/>
  <Override PartName="/ppt/slides/slide84.xml" ContentType="application/vnd.openxmlformats-officedocument.presentationml.slide+xml"/>
  <Override PartName="/ppt/slides/slide112.xml" ContentType="application/vnd.openxmlformats-officedocument.presentationml.slide+xml"/>
  <Override PartName="/ppt/slides/slide22.xml" ContentType="application/vnd.openxmlformats-officedocument.presentationml.slide+xml"/>
  <Override PartName="/ppt/slides/slide490.xml" ContentType="application/vnd.openxmlformats-officedocument.presentationml.slide+xml"/>
  <Override PartName="/ppt/slides/slide23.xml" ContentType="application/vnd.openxmlformats-officedocument.presentationml.slide+xml"/>
  <Override PartName="/ppt/slides/slide491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492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120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493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121.xml" ContentType="application/vnd.openxmlformats-officedocument.presentationml.slide+xml"/>
  <Override PartName="/ppt/slides/slide69.xml" ContentType="application/vnd.openxmlformats-officedocument.presentationml.slide+xml"/>
  <Override PartName="/ppt/slides/slide190.xml" ContentType="application/vnd.openxmlformats-officedocument.presentationml.slide+xml"/>
  <Override PartName="/ppt/slides/slide356.xml" ContentType="application/vnd.openxmlformats-officedocument.presentationml.slide+xml"/>
  <Override PartName="/ppt/slides/slide26.xml" ContentType="application/vnd.openxmlformats-officedocument.presentationml.slide+xml"/>
  <Override PartName="/ppt/slides/slide494.xml" ContentType="application/vnd.openxmlformats-officedocument.presentationml.slide+xml"/>
  <Override PartName="/ppt/slides/slide94.xml" ContentType="application/vnd.openxmlformats-officedocument.presentationml.slide+xml"/>
  <Override PartName="/ppt/slides/slide122.xml" ContentType="application/vnd.openxmlformats-officedocument.presentationml.slide+xml"/>
  <Override PartName="/ppt/slides/slide100.xml" ContentType="application/vnd.openxmlformats-officedocument.presentationml.slide+xml"/>
  <Override PartName="/ppt/slides/slide101.xml" ContentType="application/vnd.openxmlformats-officedocument.presentationml.slide+xml"/>
  <Override PartName="/ppt/slides/slide170.xml" ContentType="application/vnd.openxmlformats-officedocument.presentationml.slide+xml"/>
  <Override PartName="/ppt/slides/slide336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71.xml" ContentType="application/vnd.openxmlformats-officedocument.presentationml.slide+xml"/>
  <Override PartName="/ppt/slides/slide337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344.xml" ContentType="application/vnd.openxmlformats-officedocument.presentationml.slide+xml"/>
  <Override PartName="/ppt/slides/slide345.xml" ContentType="application/vnd.openxmlformats-officedocument.presentationml.slide+xml"/>
  <Override PartName="/ppt/slides/slide354.xml" ContentType="application/vnd.openxmlformats-officedocument.presentationml.slide+xml"/>
  <Override PartName="/ppt/slides/slide355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363.xml" ContentType="application/vnd.openxmlformats-officedocument.presentationml.slide+xml"/>
  <Override PartName="/ppt/slides/slide401.xml" ContentType="application/vnd.openxmlformats-officedocument.presentationml.slide+xml"/>
  <Override PartName="/ppt/slides/slide304.xml" ContentType="application/vnd.openxmlformats-officedocument.presentationml.slide+xml"/>
  <Override PartName="/ppt/slides/slide314.xml" ContentType="application/vnd.openxmlformats-officedocument.presentationml.slide+xml"/>
  <Override PartName="/ppt/slides/slide364.xml" ContentType="application/vnd.openxmlformats-officedocument.presentationml.slide+xml"/>
  <Override PartName="/ppt/slides/slide402.xml" ContentType="application/vnd.openxmlformats-officedocument.presentationml.slide+xml"/>
  <Override PartName="/ppt/slides/slide470.xml" ContentType="application/vnd.openxmlformats-officedocument.presentationml.slide+xml"/>
  <Override PartName="/ppt/slides/slide305.xml" ContentType="application/vnd.openxmlformats-officedocument.presentationml.slide+xml"/>
  <Override PartName="/ppt/slides/slide342.xml" ContentType="application/vnd.openxmlformats-officedocument.presentationml.slide+xml"/>
  <Override PartName="/ppt/slides/slide508.xml" ContentType="application/vnd.openxmlformats-officedocument.presentationml.slide+xml"/>
  <Override PartName="/ppt/slides/slide315.xml" ContentType="application/vnd.openxmlformats-officedocument.presentationml.slide+xml"/>
  <Override PartName="/ppt/slides/slide365.xml" ContentType="application/vnd.openxmlformats-officedocument.presentationml.slide+xml"/>
  <Override PartName="/ppt/slides/slide403.xml" ContentType="application/vnd.openxmlformats-officedocument.presentationml.slide+xml"/>
  <Override PartName="/ppt/slides/slide471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343.xml" ContentType="application/vnd.openxmlformats-officedocument.presentationml.slide+xml"/>
  <Override PartName="/ppt/slides/slide509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472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350.xml" ContentType="application/vnd.openxmlformats-officedocument.presentationml.slide+xml"/>
  <Override PartName="/ppt/slides/slide516.xml" ContentType="application/vnd.openxmlformats-officedocument.presentationml.slide+xml"/>
  <Override PartName="/ppt/slides/slide391.xml" ContentType="application/vnd.openxmlformats-officedocument.presentationml.slide+xml"/>
  <Override PartName="/ppt/slides/slide323.xml" ContentType="application/vnd.openxmlformats-officedocument.presentationml.slide+xml"/>
  <Override PartName="/ppt/slides/slide373.xml" ContentType="application/vnd.openxmlformats-officedocument.presentationml.slide+xml"/>
  <Override PartName="/ppt/slides/slide411.xml" ContentType="application/vnd.openxmlformats-officedocument.presentationml.slide+xml"/>
  <Override PartName="/ppt/slides/slide351.xml" ContentType="application/vnd.openxmlformats-officedocument.presentationml.slide+xml"/>
  <Override PartName="/ppt/slides/slide517.xml" ContentType="application/vnd.openxmlformats-officedocument.presentationml.slide+xml"/>
  <Override PartName="/ppt/slides/slide324.xml" ContentType="application/vnd.openxmlformats-officedocument.presentationml.slide+xml"/>
  <Override PartName="/ppt/slides/slide374.xml" ContentType="application/vnd.openxmlformats-officedocument.presentationml.slide+xml"/>
  <Override PartName="/ppt/slides/slide412.xml" ContentType="application/vnd.openxmlformats-officedocument.presentationml.slide+xml"/>
  <Override PartName="/ppt/slides/slide352.xml" ContentType="application/vnd.openxmlformats-officedocument.presentationml.slide+xml"/>
  <Override PartName="/ppt/slides/slide518.xml" ContentType="application/vnd.openxmlformats-officedocument.presentationml.slide+xml"/>
  <Override PartName="/ppt/slides/slide325.xml" ContentType="application/vnd.openxmlformats-officedocument.presentationml.slide+xml"/>
  <Override PartName="/ppt/slides/slide375.xml" ContentType="application/vnd.openxmlformats-officedocument.presentationml.slide+xml"/>
  <Override PartName="/ppt/slides/slide413.xml" ContentType="application/vnd.openxmlformats-officedocument.presentationml.slide+xml"/>
  <Override PartName="/ppt/slides/slide353.xml" ContentType="application/vnd.openxmlformats-officedocument.presentationml.slide+xml"/>
  <Override PartName="/ppt/slides/slide51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360.xml" ContentType="application/vnd.openxmlformats-officedocument.presentationml.slide+xml"/>
  <Override PartName="/ppt/slides/slide526.xml" ContentType="application/vnd.openxmlformats-officedocument.presentationml.slide+xml"/>
  <Override PartName="/ppt/slides/slide333.xml" ContentType="application/vnd.openxmlformats-officedocument.presentationml.slide+xml"/>
  <Override PartName="/ppt/slides/slide383.xml" ContentType="application/vnd.openxmlformats-officedocument.presentationml.slide+xml"/>
  <Override PartName="/ppt/slides/slide421.xml" ContentType="application/vnd.openxmlformats-officedocument.presentationml.slide+xml"/>
  <Override PartName="/ppt/slides/slide392.xml" ContentType="application/vnd.openxmlformats-officedocument.presentationml.slide+xml"/>
  <Override PartName="/ppt/slides/slide430.xml" ContentType="application/vnd.openxmlformats-officedocument.presentationml.slide+xml"/>
  <Override PartName="/ppt/slides/slide361.xml" ContentType="application/vnd.openxmlformats-officedocument.presentationml.slide+xml"/>
  <Override PartName="/ppt/slides/slide527.xml" ContentType="application/vnd.openxmlformats-officedocument.presentationml.slide+xml"/>
  <Override PartName="/ppt/slides/slide334.xml" ContentType="application/vnd.openxmlformats-officedocument.presentationml.slide+xml"/>
  <Override PartName="/ppt/slides/slide384.xml" ContentType="application/vnd.openxmlformats-officedocument.presentationml.slide+xml"/>
  <Override PartName="/ppt/slides/slide422.xml" ContentType="application/vnd.openxmlformats-officedocument.presentationml.slide+xml"/>
  <Override PartName="/ppt/slides/slide393.xml" ContentType="application/vnd.openxmlformats-officedocument.presentationml.slide+xml"/>
  <Override PartName="/ppt/slides/slide431.xml" ContentType="application/vnd.openxmlformats-officedocument.presentationml.slide+xml"/>
  <Override PartName="/ppt/slides/slide385.xml" ContentType="application/vnd.openxmlformats-officedocument.presentationml.slide+xml"/>
  <Override PartName="/ppt/slides/slide423.xml" ContentType="application/vnd.openxmlformats-officedocument.presentationml.slide+xml"/>
  <Override PartName="/ppt/slides/slide394.xml" ContentType="application/vnd.openxmlformats-officedocument.presentationml.slide+xml"/>
  <Override PartName="/ppt/slides/slide432.xml" ContentType="application/vnd.openxmlformats-officedocument.presentationml.slide+xml"/>
  <Override PartName="/ppt/slides/slide386.xml" ContentType="application/vnd.openxmlformats-officedocument.presentationml.slide+xml"/>
  <Override PartName="/ppt/slides/slide424.xml" ContentType="application/vnd.openxmlformats-officedocument.presentationml.slide+xml"/>
  <Override PartName="/ppt/slides/slide473.xml" ContentType="application/vnd.openxmlformats-officedocument.presentationml.slide+xml"/>
  <Override PartName="/ppt/slides/slide488.xml" ContentType="application/vnd.openxmlformats-officedocument.presentationml.slide+xml"/>
  <Override PartName="/ppt/slides/slide295.xml" ContentType="application/vnd.openxmlformats-officedocument.presentationml.slide+xml"/>
  <Override PartName="/ppt/slides/slide370.xml" ContentType="application/vnd.openxmlformats-officedocument.presentationml.slide+xml"/>
  <Override PartName="/ppt/slides/slide302.xml" ContentType="application/vnd.openxmlformats-officedocument.presentationml.slide+xml"/>
  <Override PartName="/ppt/slides/slide504.xml" ContentType="application/vnd.openxmlformats-officedocument.presentationml.slide+xml"/>
  <Override PartName="/ppt/slides/slide311.xml" ContentType="application/vnd.openxmlformats-officedocument.presentationml.slide+xml"/>
  <Override PartName="/ppt/slides/slide451.xml" ContentType="application/vnd.openxmlformats-officedocument.presentationml.slide+xml"/>
  <Override PartName="/ppt/slides/slide498.xml" ContentType="application/vnd.openxmlformats-officedocument.presentationml.slide+xml"/>
  <Override PartName="/ppt/slides/slide514.xml" ContentType="application/vnd.openxmlformats-officedocument.presentationml.slide+xml"/>
  <Override PartName="/ppt/slides/slide321.xml" ContentType="application/vnd.openxmlformats-officedocument.presentationml.slide+xml"/>
  <Override PartName="/ppt/slides/slide405.xml" ContentType="application/vnd.openxmlformats-officedocument.presentationml.slide+xml"/>
  <Override PartName="/ppt/slides/slide36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61.xml" ContentType="application/vnd.openxmlformats-officedocument.presentationml.slide+xml"/>
  <Override PartName="/ppt/slides/slide489.xml" ContentType="application/vnd.openxmlformats-officedocument.presentationml.slide+xml"/>
  <Override PartName="/ppt/slides/slide296.xml" ContentType="application/vnd.openxmlformats-officedocument.presentationml.slide+xml"/>
  <Override PartName="/ppt/slides/slide362.xml" ContentType="application/vnd.openxmlformats-officedocument.presentationml.slide+xml"/>
  <Override PartName="/ppt/slides/slide400.xml" ContentType="application/vnd.openxmlformats-officedocument.presentationml.slide+xml"/>
  <Override PartName="/ppt/slides/slide371.xml" ContentType="application/vnd.openxmlformats-officedocument.presentationml.slide+xml"/>
  <Override PartName="/ppt/slides/slide303.xml" ContentType="application/vnd.openxmlformats-officedocument.presentationml.slide+xml"/>
  <Override PartName="/ppt/slides/slide505.xml" ContentType="application/vnd.openxmlformats-officedocument.presentationml.slide+xml"/>
  <Override PartName="/ppt/slides/slide312.xml" ContentType="application/vnd.openxmlformats-officedocument.presentationml.slide+xml"/>
  <Override PartName="/ppt/slides/slide452.xml" ContentType="application/vnd.openxmlformats-officedocument.presentationml.slide+xml"/>
  <Override PartName="/ppt/slides/slide500.xml" ContentType="application/vnd.openxmlformats-officedocument.presentationml.slide+xml"/>
  <Override PartName="/ppt/slides/slide501.xml" ContentType="application/vnd.openxmlformats-officedocument.presentationml.slide+xml"/>
  <Override PartName="/ppt/slides/slide502.xml" ContentType="application/vnd.openxmlformats-officedocument.presentationml.slide+xml"/>
  <Override PartName="/ppt/slides/slide503.xml" ContentType="application/vnd.openxmlformats-officedocument.presentationml.slide+xml"/>
  <Override PartName="/ppt/slides/slide310.xml" ContentType="application/vnd.openxmlformats-officedocument.presentationml.slide+xml"/>
  <Override PartName="/ppt/slides/slide450.xml" ContentType="application/vnd.openxmlformats-officedocument.presentationml.slide+xml"/>
  <Override PartName="/ppt/slides/slide479.xml" ContentType="application/vnd.openxmlformats-officedocument.presentationml.slide+xml"/>
  <Override PartName="/ppt/slides/slide286.xml" ContentType="application/vnd.openxmlformats-officedocument.presentationml.slide+xml"/>
  <Override PartName="/ppt/slides/slide442.xml" ContentType="application/vnd.openxmlformats-officedocument.presentationml.slide+xml"/>
  <Override PartName="/ppt/slides/slide382.xml" ContentType="application/vnd.openxmlformats-officedocument.presentationml.slide+xml"/>
  <Override PartName="/ppt/slides/slide420.xml" ContentType="application/vnd.openxmlformats-officedocument.presentationml.slide+xml"/>
  <Override PartName="/ppt/slides/slide525.xml" ContentType="application/vnd.openxmlformats-officedocument.presentationml.slide+xml"/>
  <Override PartName="/ppt/slides/slide332.xml" ContentType="application/vnd.openxmlformats-officedocument.presentationml.slide+xml"/>
  <Override PartName="/ppt/slides/slide513.xml" ContentType="application/vnd.openxmlformats-officedocument.presentationml.slide+xml"/>
  <Override PartName="/ppt/slides/slide320.xml" ContentType="application/vnd.openxmlformats-officedocument.presentationml.slide+xml"/>
  <Override PartName="/ppt/slides/slide404.xml" ContentType="application/vnd.openxmlformats-officedocument.presentationml.slide+xml"/>
  <Override PartName="/ppt/slides/slide366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460.xml" ContentType="application/vnd.openxmlformats-officedocument.presentationml.slide+xml"/>
  <Override PartName="/ppt/slides/slide478.xml" ContentType="application/vnd.openxmlformats-officedocument.presentationml.slide+xml"/>
  <Override PartName="/ppt/slides/slide285.xml" ContentType="application/vnd.openxmlformats-officedocument.presentationml.slide+xml"/>
  <Override PartName="/ppt/slides/slide441.xml" ContentType="application/vnd.openxmlformats-officedocument.presentationml.slide+xml"/>
  <Override PartName="/ppt/slides/slide390.xml" ContentType="application/vnd.openxmlformats-officedocument.presentationml.slide+xml"/>
  <Override PartName="/ppt/slides/slide515.xml" ContentType="application/vnd.openxmlformats-officedocument.presentationml.slide+xml"/>
  <Override PartName="/ppt/slides/slide322.xml" ContentType="application/vnd.openxmlformats-officedocument.presentationml.slide+xml"/>
  <Override PartName="/ppt/slides/slide524.xml" ContentType="application/vnd.openxmlformats-officedocument.presentationml.slide+xml"/>
  <Override PartName="/ppt/slides/slide331.xml" ContentType="application/vnd.openxmlformats-officedocument.presentationml.slide+xml"/>
  <Override PartName="/ppt/slides/slide415.xml" ContentType="application/vnd.openxmlformats-officedocument.presentationml.slide+xml"/>
  <Override PartName="/ppt/slides/slide377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512.xml" ContentType="application/vnd.openxmlformats-officedocument.presentationml.slide+xml"/>
  <Override PartName="/ppt/slides/slide477.xml" ContentType="application/vnd.openxmlformats-officedocument.presentationml.slide+xml"/>
  <Override PartName="/ppt/slides/slide284.xml" ContentType="application/vnd.openxmlformats-officedocument.presentationml.slide+xml"/>
  <Override PartName="/ppt/slides/slide440.xml" ContentType="application/vnd.openxmlformats-officedocument.presentationml.slide+xml"/>
  <Override PartName="/ppt/slides/slide523.xml" ContentType="application/vnd.openxmlformats-officedocument.presentationml.slide+xml"/>
  <Override PartName="/ppt/slides/slide330.xml" ContentType="application/vnd.openxmlformats-officedocument.presentationml.slide+xml"/>
  <Override PartName="/ppt/slides/slide414.xml" ContentType="application/vnd.openxmlformats-officedocument.presentationml.slide+xml"/>
  <Override PartName="/ppt/slides/slide376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511.xml" ContentType="application/vnd.openxmlformats-officedocument.presentationml.slide+xml"/>
  <Override PartName="/ppt/slides/slide476.xml" ContentType="application/vnd.openxmlformats-officedocument.presentationml.slide+xml"/>
  <Override PartName="/ppt/slides/slide522.xml" ContentType="application/vnd.openxmlformats-officedocument.presentationml.slide+xml"/>
  <Override PartName="/ppt/slides/slide499.xml" ContentType="application/vnd.openxmlformats-officedocument.presentationml.slide+xml"/>
  <Override PartName="/ppt/slides/slide372.xml" ContentType="application/vnd.openxmlformats-officedocument.presentationml.slide+xml"/>
  <Override PartName="/ppt/slides/slide410.xml" ContentType="application/vnd.openxmlformats-officedocument.presentationml.slide+xml"/>
  <Override PartName="/ppt/slides/slide462.xml" ContentType="application/vnd.openxmlformats-officedocument.presentationml.slide+xml"/>
  <Override PartName="/ppt/slides/slide510.xml" ContentType="application/vnd.openxmlformats-officedocument.presentationml.slide+xml"/>
  <Override PartName="/ppt/slides/slide475.xml" ContentType="application/vnd.openxmlformats-officedocument.presentationml.slide+xml"/>
  <Override PartName="/ppt/slides/slide521.xml" ContentType="application/vnd.openxmlformats-officedocument.presentationml.slide+xml"/>
  <Override PartName="/ppt/slides/slide474.xml" ContentType="application/vnd.openxmlformats-officedocument.presentationml.slide+xml"/>
  <Override PartName="/ppt/slides/slide520.xml" ContentType="application/vnd.openxmlformats-officedocument.presentationml.slide+xml"/>
  <Override PartName="/ppt/slides/slide469.xml" ContentType="application/vnd.openxmlformats-officedocument.presentationml.slide+xml"/>
  <Override PartName="/ppt/slides/slide276.xml" ContentType="application/vnd.openxmlformats-officedocument.presentationml.slide+xml"/>
  <Override PartName="/ppt/slides/slide468.xml" ContentType="application/vnd.openxmlformats-officedocument.presentationml.slide+xml"/>
  <Override PartName="/ppt/slides/slide275.xml" ContentType="application/vnd.openxmlformats-officedocument.presentationml.slide+xml"/>
  <Override PartName="/ppt/slides/slide467.xml" ContentType="application/vnd.openxmlformats-officedocument.presentationml.slide+xml"/>
  <Override PartName="/ppt/slides/slide274.xml" ContentType="application/vnd.openxmlformats-officedocument.presentationml.slide+xml"/>
  <Override PartName="/ppt/slides/slide466.xml" ContentType="application/vnd.openxmlformats-officedocument.presentationml.slide+xml"/>
  <Override PartName="/ppt/slides/slide465.xml" ContentType="application/vnd.openxmlformats-officedocument.presentationml.slide+xml"/>
  <Override PartName="/ppt/slides/slide464.xml" ContentType="application/vnd.openxmlformats-officedocument.presentationml.slide+xml"/>
  <Override PartName="/ppt/slides/slide463.xml" ContentType="application/vnd.openxmlformats-officedocument.presentationml.slide+xml"/>
  <Override PartName="/ppt/slides/slide455.xml" ContentType="application/vnd.openxmlformats-officedocument.presentationml.slide+xml"/>
  <Override PartName="/ppt/slides/slide454.xml" ContentType="application/vnd.openxmlformats-officedocument.presentationml.slide+xml"/>
  <Override PartName="/ppt/slides/slide453.xml" ContentType="application/vnd.openxmlformats-officedocument.presentationml.slide+xml"/>
  <Override PartName="/ppt/slides/slide445.xml" ContentType="application/vnd.openxmlformats-officedocument.presentationml.slide+xml"/>
  <Override PartName="/ppt/slides/slide444.xml" ContentType="application/vnd.openxmlformats-officedocument.presentationml.slide+xml"/>
  <Override PartName="/ppt/slides/slide443.xml" ContentType="application/vnd.openxmlformats-officedocument.presentationml.slide+xml"/>
  <Override PartName="/ppt/slides/slide435.xml" ContentType="application/vnd.openxmlformats-officedocument.presentationml.slide+xml"/>
  <Override PartName="/ppt/slides/slide397.xml" ContentType="application/vnd.openxmlformats-officedocument.presentationml.slide+xml"/>
  <Override PartName="/ppt/slides/slide387.xml" ContentType="application/vnd.openxmlformats-officedocument.presentationml.slide+xml"/>
  <Override PartName="/ppt/slides/slide425.xml" ContentType="application/vnd.openxmlformats-officedocument.presentationml.slide+xml"/>
  <Override PartName="/ppt/slides/slide434.xml" ContentType="application/vnd.openxmlformats-officedocument.presentationml.slide+xml"/>
  <Override PartName="/ppt/slides/slide396.xml" ContentType="application/vnd.openxmlformats-officedocument.presentationml.slide+xml"/>
  <Override PartName="/ppt/slides/slide395.xml" ContentType="application/vnd.openxmlformats-officedocument.presentationml.slide+xml"/>
  <Override PartName="/ppt/slides/slide433.xml" ContentType="application/vnd.openxmlformats-officedocument.presentationml.slide+xml"/>
  <Override PartName="/ppt/slides/slide507.xml" ContentType="application/vnd.openxmlformats-officedocument.presentationml.slide+xml"/>
  <Override PartName="/ppt/slides/slide341.xml" ContentType="application/vnd.openxmlformats-officedocument.presentationml.slide+xml"/>
  <Override PartName="/ppt/slides/slide313.xml" ContentType="application/vnd.openxmlformats-officedocument.presentationml.slide+xml"/>
  <Override PartName="/ppt/slides/slide506.xml" ContentType="application/vnd.openxmlformats-officedocument.presentationml.slide+xml"/>
  <Override PartName="/ppt/slides/slide340.xml" ContentType="application/vnd.openxmlformats-officedocument.presentationml.slide+xml"/>
  <Override PartName="/ppt/slides/slide335.xml" ContentType="application/vnd.openxmlformats-officedocument.presentationml.slide+xml"/>
  <Override PartName="/ppt/slides/slide301.xml" ContentType="application/vnd.openxmlformats-officedocument.presentationml.slide+xml"/>
  <Override PartName="/ppt/slides/slide300.xml" ContentType="application/vnd.openxmlformats-officedocument.presentationml.slide+xml"/>
  <Override PartName="/ppt/slides/slide299.xml" ContentType="application/vnd.openxmlformats-officedocument.presentationml.slide+xml"/>
  <Override PartName="/ppt/slides/slide298.xml" ContentType="application/vnd.openxmlformats-officedocument.presentationml.slide+xml"/>
  <Override PartName="/ppt/slides/slide297.xml" ContentType="application/vnd.openxmlformats-officedocument.presentationml.slide+xml"/>
  <Override PartName="/ppt/slides/slide294.xml" ContentType="application/vnd.openxmlformats-officedocument.presentationml.slide+xml"/>
  <Override PartName="/ppt/slides/slide19.xml" ContentType="application/vnd.openxmlformats-officedocument.presentationml.slide+xml"/>
  <Override PartName="/ppt/slides/slide487.xml" ContentType="application/vnd.openxmlformats-officedocument.presentationml.slide+xml"/>
  <Override PartName="/ppt/slides/slide266.xml" ContentType="application/vnd.openxmlformats-officedocument.presentationml.slide+xml"/>
  <Override PartName="/ppt/slides/slide459.xml" ContentType="application/vnd.openxmlformats-officedocument.presentationml.slide+xml"/>
  <Override PartName="/ppt/slides/slide293.xml" ContentType="application/vnd.openxmlformats-officedocument.presentationml.slide+xml"/>
  <Override PartName="/ppt/slides/slide18.xml" ContentType="application/vnd.openxmlformats-officedocument.presentationml.slide+xml"/>
  <Override PartName="/ppt/slides/slide486.xml" ContentType="application/vnd.openxmlformats-officedocument.presentationml.slide+xml"/>
  <Override PartName="/ppt/slides/slide265.xml" ContentType="application/vnd.openxmlformats-officedocument.presentationml.slide+xml"/>
  <Override PartName="/ppt/slides/slide458.xml" ContentType="application/vnd.openxmlformats-officedocument.presentationml.slide+xml"/>
  <Override PartName="/ppt/slides/slide292.xml" ContentType="application/vnd.openxmlformats-officedocument.presentationml.slide+xml"/>
  <Override PartName="/ppt/slides/slide17.xml" ContentType="application/vnd.openxmlformats-officedocument.presentationml.slide+xml"/>
  <Override PartName="/ppt/slides/slide485.xml" ContentType="application/vnd.openxmlformats-officedocument.presentationml.slide+xml"/>
  <Override PartName="/ppt/slides/slide264.xml" ContentType="application/vnd.openxmlformats-officedocument.presentationml.slide+xml"/>
  <Override PartName="/ppt/slides/slide457.xml" ContentType="application/vnd.openxmlformats-officedocument.presentationml.slide+xml"/>
  <Override PartName="/ppt/slides/slide291.xml" ContentType="application/vnd.openxmlformats-officedocument.presentationml.slide+xml"/>
  <Override PartName="/ppt/slides/slide290.xml" ContentType="application/vnd.openxmlformats-officedocument.presentationml.slide+xml"/>
  <Override PartName="/ppt/slides/slide456.xml" ContentType="application/vnd.openxmlformats-officedocument.presentationml.slide+xml"/>
  <Override PartName="/ppt/slides/slide289.xml" ContentType="application/vnd.openxmlformats-officedocument.presentationml.slide+xml"/>
  <Override PartName="/ppt/slides/slide288.xml" ContentType="application/vnd.openxmlformats-officedocument.presentationml.slide+xml"/>
  <Override PartName="/ppt/slides/slide287.xml" ContentType="application/vnd.openxmlformats-officedocument.presentationml.slide+xml"/>
  <Override PartName="/ppt/slides/slide283.xml" ContentType="application/vnd.openxmlformats-officedocument.presentationml.slide+xml"/>
  <Override PartName="/ppt/slides/slide449.xml" ContentType="application/vnd.openxmlformats-officedocument.presentationml.slide+xml"/>
  <Override PartName="/ppt/slides/slide282.xml" ContentType="application/vnd.openxmlformats-officedocument.presentationml.slide+xml"/>
  <Override PartName="/ppt/slides/slide448.xml" ContentType="application/vnd.openxmlformats-officedocument.presentationml.slide+xml"/>
  <Override PartName="/ppt/slides/slide281.xml" ContentType="application/vnd.openxmlformats-officedocument.presentationml.slide+xml"/>
  <Override PartName="/ppt/slides/slide447.xml" ContentType="application/vnd.openxmlformats-officedocument.presentationml.slide+xml"/>
  <Override PartName="/ppt/slides/slide280.xml" ContentType="application/vnd.openxmlformats-officedocument.presentationml.slide+xml"/>
  <Override PartName="/ppt/slides/slide446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77.xml" ContentType="application/vnd.openxmlformats-officedocument.presentationml.slide+xml"/>
  <Override PartName="/ppt/slides/slide273.xml" ContentType="application/vnd.openxmlformats-officedocument.presentationml.slide+xml"/>
  <Override PartName="/ppt/slides/slide439.xml" ContentType="application/vnd.openxmlformats-officedocument.presentationml.slide+xml"/>
  <Override PartName="/ppt/slides/slide272.xml" ContentType="application/vnd.openxmlformats-officedocument.presentationml.slide+xml"/>
  <Override PartName="/ppt/slides/slide438.xml" ContentType="application/vnd.openxmlformats-officedocument.presentationml.slide+xml"/>
  <Override PartName="/ppt/slides/slide399.xml" ContentType="application/vnd.openxmlformats-officedocument.presentationml.slide+xml"/>
  <Override PartName="/ppt/slides/slide271.xml" ContentType="application/vnd.openxmlformats-officedocument.presentationml.slide+xml"/>
  <Override PartName="/ppt/slides/slide437.xml" ContentType="application/vnd.openxmlformats-officedocument.presentationml.slide+xml"/>
  <Override PartName="/ppt/slides/slide398.xml" ContentType="application/vnd.openxmlformats-officedocument.presentationml.slide+xml"/>
  <Override PartName="/ppt/slides/slide270.xml" ContentType="application/vnd.openxmlformats-officedocument.presentationml.slide+xml"/>
  <Override PartName="/ppt/slides/slide436.xml" ContentType="application/vnd.openxmlformats-officedocument.presentationml.slide+xml"/>
  <Override PartName="/ppt/slides/slide269.xml" ContentType="application/vnd.openxmlformats-officedocument.presentationml.slide+xml"/>
  <Override PartName="/ppt/slides/slide268.xml" ContentType="application/vnd.openxmlformats-officedocument.presentationml.slide+xml"/>
  <Override PartName="/ppt/slides/slide267.xml" ContentType="application/vnd.openxmlformats-officedocument.presentationml.slide+xml"/>
  <Override PartName="/ppt/slides/slide263.xml" ContentType="application/vnd.openxmlformats-officedocument.presentationml.slide+xml"/>
  <Override PartName="/ppt/slides/slide429.xml" ContentType="application/vnd.openxmlformats-officedocument.presentationml.slide+xml"/>
  <Override PartName="/ppt/slides/slide29.xml" ContentType="application/vnd.openxmlformats-officedocument.presentationml.slide+xml"/>
  <Override PartName="/ppt/slides/slide497.xml" ContentType="application/vnd.openxmlformats-officedocument.presentationml.slide+xml"/>
  <Override PartName="/ppt/slides/slide262.xml" ContentType="application/vnd.openxmlformats-officedocument.presentationml.slide+xml"/>
  <Override PartName="/ppt/slides/slide428.xml" ContentType="application/vnd.openxmlformats-officedocument.presentationml.slide+xml"/>
  <Override PartName="/ppt/slides/slide28.xml" ContentType="application/vnd.openxmlformats-officedocument.presentationml.slide+xml"/>
  <Override PartName="/ppt/slides/slide496.xml" ContentType="application/vnd.openxmlformats-officedocument.presentationml.slide+xml"/>
  <Override PartName="/ppt/slides/slide27.xml" ContentType="application/vnd.openxmlformats-officedocument.presentationml.slide+xml"/>
  <Override PartName="/ppt/slides/slide495.xml" ContentType="application/vnd.openxmlformats-officedocument.presentationml.slide+xml"/>
  <Override PartName="/ppt/slides/slide261.xml" ContentType="application/vnd.openxmlformats-officedocument.presentationml.slide+xml"/>
  <Override PartName="/ppt/slides/slide427.xml" ContentType="application/vnd.openxmlformats-officedocument.presentationml.slide+xml"/>
  <Override PartName="/ppt/slides/slide389.xml" ContentType="application/vnd.openxmlformats-officedocument.presentationml.slide+xml"/>
  <Override PartName="/ppt/slides/slide260.xml" ContentType="application/vnd.openxmlformats-officedocument.presentationml.slide+xml"/>
  <Override PartName="/ppt/slides/slide426.xml" ContentType="application/vnd.openxmlformats-officedocument.presentationml.slide+xml"/>
  <Override PartName="/ppt/slides/slide388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1.xml" ContentType="application/vnd.openxmlformats-officedocument.presentationml.slide+xml"/>
  <Override PartName="/ppt/slides/slide35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1.xml" ContentType="application/vnd.openxmlformats-officedocument.presentationml.slide+xml"/>
  <Override PartName="/ppt/slides/slide3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  <p:sldId id="475" r:id="rId222"/>
    <p:sldId id="476" r:id="rId223"/>
    <p:sldId id="477" r:id="rId224"/>
    <p:sldId id="478" r:id="rId225"/>
    <p:sldId id="479" r:id="rId226"/>
    <p:sldId id="480" r:id="rId227"/>
    <p:sldId id="481" r:id="rId228"/>
    <p:sldId id="482" r:id="rId229"/>
    <p:sldId id="483" r:id="rId230"/>
    <p:sldId id="484" r:id="rId231"/>
    <p:sldId id="485" r:id="rId232"/>
    <p:sldId id="486" r:id="rId233"/>
    <p:sldId id="487" r:id="rId234"/>
    <p:sldId id="488" r:id="rId235"/>
    <p:sldId id="489" r:id="rId236"/>
    <p:sldId id="490" r:id="rId237"/>
    <p:sldId id="491" r:id="rId238"/>
    <p:sldId id="492" r:id="rId239"/>
    <p:sldId id="493" r:id="rId240"/>
    <p:sldId id="494" r:id="rId241"/>
    <p:sldId id="495" r:id="rId242"/>
    <p:sldId id="496" r:id="rId243"/>
    <p:sldId id="497" r:id="rId244"/>
    <p:sldId id="498" r:id="rId245"/>
    <p:sldId id="499" r:id="rId246"/>
    <p:sldId id="500" r:id="rId247"/>
    <p:sldId id="501" r:id="rId248"/>
    <p:sldId id="502" r:id="rId249"/>
    <p:sldId id="503" r:id="rId250"/>
    <p:sldId id="504" r:id="rId251"/>
    <p:sldId id="505" r:id="rId252"/>
    <p:sldId id="506" r:id="rId253"/>
    <p:sldId id="507" r:id="rId254"/>
    <p:sldId id="508" r:id="rId255"/>
    <p:sldId id="509" r:id="rId256"/>
    <p:sldId id="510" r:id="rId257"/>
    <p:sldId id="511" r:id="rId258"/>
    <p:sldId id="512" r:id="rId259"/>
    <p:sldId id="513" r:id="rId260"/>
    <p:sldId id="514" r:id="rId261"/>
    <p:sldId id="515" r:id="rId262"/>
    <p:sldId id="516" r:id="rId263"/>
    <p:sldId id="517" r:id="rId264"/>
    <p:sldId id="518" r:id="rId265"/>
    <p:sldId id="519" r:id="rId266"/>
    <p:sldId id="520" r:id="rId267"/>
    <p:sldId id="521" r:id="rId268"/>
    <p:sldId id="522" r:id="rId269"/>
    <p:sldId id="523" r:id="rId270"/>
    <p:sldId id="524" r:id="rId271"/>
    <p:sldId id="525" r:id="rId272"/>
    <p:sldId id="526" r:id="rId273"/>
    <p:sldId id="527" r:id="rId274"/>
    <p:sldId id="528" r:id="rId275"/>
    <p:sldId id="529" r:id="rId276"/>
    <p:sldId id="530" r:id="rId277"/>
    <p:sldId id="531" r:id="rId278"/>
    <p:sldId id="532" r:id="rId279"/>
    <p:sldId id="533" r:id="rId280"/>
    <p:sldId id="534" r:id="rId281"/>
    <p:sldId id="535" r:id="rId282"/>
    <p:sldId id="536" r:id="rId283"/>
    <p:sldId id="537" r:id="rId284"/>
    <p:sldId id="538" r:id="rId285"/>
    <p:sldId id="539" r:id="rId286"/>
    <p:sldId id="540" r:id="rId287"/>
    <p:sldId id="541" r:id="rId288"/>
    <p:sldId id="542" r:id="rId289"/>
    <p:sldId id="543" r:id="rId290"/>
    <p:sldId id="544" r:id="rId291"/>
    <p:sldId id="545" r:id="rId292"/>
    <p:sldId id="546" r:id="rId293"/>
    <p:sldId id="547" r:id="rId294"/>
    <p:sldId id="548" r:id="rId295"/>
    <p:sldId id="549" r:id="rId296"/>
    <p:sldId id="550" r:id="rId297"/>
    <p:sldId id="551" r:id="rId298"/>
    <p:sldId id="552" r:id="rId299"/>
    <p:sldId id="553" r:id="rId300"/>
    <p:sldId id="554" r:id="rId301"/>
    <p:sldId id="555" r:id="rId302"/>
    <p:sldId id="556" r:id="rId303"/>
    <p:sldId id="557" r:id="rId304"/>
    <p:sldId id="558" r:id="rId305"/>
    <p:sldId id="559" r:id="rId306"/>
    <p:sldId id="560" r:id="rId307"/>
    <p:sldId id="561" r:id="rId308"/>
    <p:sldId id="562" r:id="rId309"/>
    <p:sldId id="563" r:id="rId310"/>
    <p:sldId id="564" r:id="rId311"/>
    <p:sldId id="565" r:id="rId312"/>
    <p:sldId id="566" r:id="rId313"/>
    <p:sldId id="567" r:id="rId314"/>
    <p:sldId id="568" r:id="rId315"/>
    <p:sldId id="569" r:id="rId316"/>
    <p:sldId id="570" r:id="rId317"/>
    <p:sldId id="571" r:id="rId318"/>
    <p:sldId id="572" r:id="rId319"/>
    <p:sldId id="573" r:id="rId320"/>
    <p:sldId id="574" r:id="rId321"/>
    <p:sldId id="575" r:id="rId322"/>
    <p:sldId id="576" r:id="rId323"/>
    <p:sldId id="577" r:id="rId324"/>
    <p:sldId id="578" r:id="rId325"/>
    <p:sldId id="579" r:id="rId326"/>
    <p:sldId id="580" r:id="rId327"/>
    <p:sldId id="581" r:id="rId328"/>
    <p:sldId id="582" r:id="rId329"/>
    <p:sldId id="583" r:id="rId330"/>
    <p:sldId id="584" r:id="rId331"/>
    <p:sldId id="585" r:id="rId332"/>
    <p:sldId id="586" r:id="rId333"/>
    <p:sldId id="587" r:id="rId334"/>
    <p:sldId id="588" r:id="rId335"/>
    <p:sldId id="589" r:id="rId336"/>
    <p:sldId id="590" r:id="rId337"/>
    <p:sldId id="591" r:id="rId338"/>
    <p:sldId id="592" r:id="rId339"/>
    <p:sldId id="593" r:id="rId340"/>
    <p:sldId id="594" r:id="rId341"/>
    <p:sldId id="595" r:id="rId342"/>
    <p:sldId id="596" r:id="rId343"/>
    <p:sldId id="597" r:id="rId344"/>
    <p:sldId id="598" r:id="rId345"/>
    <p:sldId id="599" r:id="rId346"/>
    <p:sldId id="600" r:id="rId347"/>
    <p:sldId id="601" r:id="rId348"/>
    <p:sldId id="602" r:id="rId349"/>
    <p:sldId id="603" r:id="rId350"/>
    <p:sldId id="604" r:id="rId351"/>
    <p:sldId id="605" r:id="rId352"/>
    <p:sldId id="606" r:id="rId353"/>
    <p:sldId id="607" r:id="rId354"/>
    <p:sldId id="608" r:id="rId355"/>
    <p:sldId id="609" r:id="rId356"/>
    <p:sldId id="610" r:id="rId357"/>
    <p:sldId id="611" r:id="rId358"/>
    <p:sldId id="612" r:id="rId359"/>
    <p:sldId id="613" r:id="rId360"/>
    <p:sldId id="614" r:id="rId361"/>
    <p:sldId id="615" r:id="rId362"/>
    <p:sldId id="616" r:id="rId363"/>
    <p:sldId id="617" r:id="rId364"/>
    <p:sldId id="618" r:id="rId365"/>
    <p:sldId id="619" r:id="rId366"/>
    <p:sldId id="620" r:id="rId367"/>
    <p:sldId id="621" r:id="rId368"/>
    <p:sldId id="622" r:id="rId369"/>
    <p:sldId id="623" r:id="rId370"/>
    <p:sldId id="624" r:id="rId371"/>
    <p:sldId id="625" r:id="rId372"/>
    <p:sldId id="626" r:id="rId373"/>
    <p:sldId id="627" r:id="rId374"/>
    <p:sldId id="628" r:id="rId375"/>
    <p:sldId id="629" r:id="rId376"/>
    <p:sldId id="630" r:id="rId377"/>
    <p:sldId id="631" r:id="rId378"/>
    <p:sldId id="632" r:id="rId379"/>
    <p:sldId id="633" r:id="rId380"/>
    <p:sldId id="634" r:id="rId381"/>
    <p:sldId id="635" r:id="rId382"/>
    <p:sldId id="636" r:id="rId383"/>
    <p:sldId id="637" r:id="rId384"/>
    <p:sldId id="638" r:id="rId385"/>
    <p:sldId id="639" r:id="rId386"/>
    <p:sldId id="640" r:id="rId387"/>
    <p:sldId id="641" r:id="rId388"/>
    <p:sldId id="642" r:id="rId389"/>
    <p:sldId id="643" r:id="rId390"/>
    <p:sldId id="644" r:id="rId391"/>
    <p:sldId id="645" r:id="rId392"/>
    <p:sldId id="646" r:id="rId393"/>
    <p:sldId id="647" r:id="rId394"/>
    <p:sldId id="648" r:id="rId395"/>
    <p:sldId id="649" r:id="rId396"/>
    <p:sldId id="650" r:id="rId397"/>
    <p:sldId id="651" r:id="rId398"/>
    <p:sldId id="652" r:id="rId399"/>
    <p:sldId id="653" r:id="rId400"/>
    <p:sldId id="654" r:id="rId401"/>
    <p:sldId id="655" r:id="rId402"/>
    <p:sldId id="656" r:id="rId403"/>
    <p:sldId id="657" r:id="rId404"/>
    <p:sldId id="658" r:id="rId405"/>
    <p:sldId id="659" r:id="rId406"/>
    <p:sldId id="660" r:id="rId407"/>
    <p:sldId id="661" r:id="rId408"/>
    <p:sldId id="662" r:id="rId409"/>
    <p:sldId id="663" r:id="rId410"/>
    <p:sldId id="664" r:id="rId411"/>
    <p:sldId id="665" r:id="rId412"/>
    <p:sldId id="666" r:id="rId413"/>
    <p:sldId id="667" r:id="rId414"/>
    <p:sldId id="668" r:id="rId415"/>
    <p:sldId id="669" r:id="rId416"/>
    <p:sldId id="670" r:id="rId417"/>
    <p:sldId id="671" r:id="rId418"/>
    <p:sldId id="672" r:id="rId419"/>
    <p:sldId id="673" r:id="rId420"/>
    <p:sldId id="674" r:id="rId421"/>
    <p:sldId id="675" r:id="rId422"/>
    <p:sldId id="676" r:id="rId423"/>
    <p:sldId id="677" r:id="rId424"/>
    <p:sldId id="678" r:id="rId425"/>
    <p:sldId id="679" r:id="rId426"/>
    <p:sldId id="680" r:id="rId427"/>
    <p:sldId id="681" r:id="rId428"/>
    <p:sldId id="682" r:id="rId429"/>
    <p:sldId id="683" r:id="rId430"/>
    <p:sldId id="684" r:id="rId431"/>
    <p:sldId id="685" r:id="rId432"/>
    <p:sldId id="686" r:id="rId433"/>
    <p:sldId id="687" r:id="rId434"/>
    <p:sldId id="688" r:id="rId435"/>
    <p:sldId id="689" r:id="rId436"/>
    <p:sldId id="690" r:id="rId437"/>
    <p:sldId id="691" r:id="rId438"/>
    <p:sldId id="692" r:id="rId439"/>
    <p:sldId id="693" r:id="rId440"/>
    <p:sldId id="694" r:id="rId441"/>
    <p:sldId id="695" r:id="rId442"/>
    <p:sldId id="696" r:id="rId443"/>
    <p:sldId id="697" r:id="rId444"/>
    <p:sldId id="698" r:id="rId445"/>
    <p:sldId id="699" r:id="rId446"/>
    <p:sldId id="700" r:id="rId447"/>
    <p:sldId id="701" r:id="rId448"/>
    <p:sldId id="702" r:id="rId449"/>
    <p:sldId id="703" r:id="rId450"/>
    <p:sldId id="704" r:id="rId451"/>
    <p:sldId id="705" r:id="rId452"/>
    <p:sldId id="706" r:id="rId453"/>
    <p:sldId id="707" r:id="rId454"/>
    <p:sldId id="708" r:id="rId455"/>
    <p:sldId id="709" r:id="rId456"/>
    <p:sldId id="710" r:id="rId457"/>
    <p:sldId id="711" r:id="rId458"/>
    <p:sldId id="712" r:id="rId459"/>
    <p:sldId id="713" r:id="rId460"/>
    <p:sldId id="714" r:id="rId461"/>
    <p:sldId id="715" r:id="rId462"/>
    <p:sldId id="716" r:id="rId463"/>
    <p:sldId id="717" r:id="rId464"/>
    <p:sldId id="718" r:id="rId465"/>
    <p:sldId id="719" r:id="rId466"/>
    <p:sldId id="720" r:id="rId467"/>
    <p:sldId id="721" r:id="rId468"/>
    <p:sldId id="722" r:id="rId469"/>
    <p:sldId id="723" r:id="rId470"/>
    <p:sldId id="724" r:id="rId471"/>
    <p:sldId id="725" r:id="rId472"/>
    <p:sldId id="726" r:id="rId473"/>
    <p:sldId id="727" r:id="rId474"/>
    <p:sldId id="728" r:id="rId475"/>
    <p:sldId id="729" r:id="rId476"/>
    <p:sldId id="730" r:id="rId477"/>
    <p:sldId id="731" r:id="rId478"/>
    <p:sldId id="732" r:id="rId479"/>
    <p:sldId id="733" r:id="rId480"/>
    <p:sldId id="734" r:id="rId481"/>
    <p:sldId id="735" r:id="rId482"/>
    <p:sldId id="736" r:id="rId483"/>
    <p:sldId id="737" r:id="rId484"/>
    <p:sldId id="738" r:id="rId485"/>
    <p:sldId id="739" r:id="rId486"/>
    <p:sldId id="740" r:id="rId487"/>
    <p:sldId id="741" r:id="rId488"/>
    <p:sldId id="742" r:id="rId489"/>
    <p:sldId id="743" r:id="rId490"/>
    <p:sldId id="744" r:id="rId491"/>
    <p:sldId id="745" r:id="rId492"/>
    <p:sldId id="746" r:id="rId493"/>
    <p:sldId id="747" r:id="rId494"/>
    <p:sldId id="748" r:id="rId495"/>
    <p:sldId id="749" r:id="rId496"/>
    <p:sldId id="750" r:id="rId497"/>
    <p:sldId id="751" r:id="rId498"/>
    <p:sldId id="752" r:id="rId499"/>
    <p:sldId id="753" r:id="rId500"/>
    <p:sldId id="754" r:id="rId501"/>
    <p:sldId id="755" r:id="rId502"/>
    <p:sldId id="756" r:id="rId503"/>
    <p:sldId id="757" r:id="rId504"/>
    <p:sldId id="758" r:id="rId505"/>
    <p:sldId id="759" r:id="rId506"/>
    <p:sldId id="760" r:id="rId507"/>
    <p:sldId id="761" r:id="rId508"/>
    <p:sldId id="762" r:id="rId509"/>
    <p:sldId id="763" r:id="rId510"/>
    <p:sldId id="764" r:id="rId511"/>
    <p:sldId id="765" r:id="rId512"/>
    <p:sldId id="766" r:id="rId513"/>
    <p:sldId id="767" r:id="rId514"/>
    <p:sldId id="768" r:id="rId515"/>
    <p:sldId id="769" r:id="rId516"/>
    <p:sldId id="770" r:id="rId517"/>
    <p:sldId id="771" r:id="rId518"/>
    <p:sldId id="772" r:id="rId519"/>
    <p:sldId id="773" r:id="rId520"/>
    <p:sldId id="774" r:id="rId521"/>
    <p:sldId id="775" r:id="rId522"/>
    <p:sldId id="776" r:id="rId523"/>
    <p:sldId id="777" r:id="rId524"/>
    <p:sldId id="778" r:id="rId525"/>
    <p:sldId id="779" r:id="rId526"/>
    <p:sldId id="780" r:id="rId527"/>
    <p:sldId id="781" r:id="rId528"/>
    <p:sldId id="782" r:id="rId5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slide" Target="slides/slide220.xml"/><Relationship Id="rId223" Type="http://schemas.openxmlformats.org/officeDocument/2006/relationships/slide" Target="slides/slide221.xml"/><Relationship Id="rId224" Type="http://schemas.openxmlformats.org/officeDocument/2006/relationships/slide" Target="slides/slide222.xml"/><Relationship Id="rId225" Type="http://schemas.openxmlformats.org/officeDocument/2006/relationships/slide" Target="slides/slide223.xml"/><Relationship Id="rId226" Type="http://schemas.openxmlformats.org/officeDocument/2006/relationships/slide" Target="slides/slide224.xml"/><Relationship Id="rId227" Type="http://schemas.openxmlformats.org/officeDocument/2006/relationships/slide" Target="slides/slide225.xml"/><Relationship Id="rId228" Type="http://schemas.openxmlformats.org/officeDocument/2006/relationships/slide" Target="slides/slide226.xml"/><Relationship Id="rId229" Type="http://schemas.openxmlformats.org/officeDocument/2006/relationships/slide" Target="slides/slide227.xml"/><Relationship Id="rId230" Type="http://schemas.openxmlformats.org/officeDocument/2006/relationships/slide" Target="slides/slide228.xml"/><Relationship Id="rId231" Type="http://schemas.openxmlformats.org/officeDocument/2006/relationships/slide" Target="slides/slide229.xml"/><Relationship Id="rId232" Type="http://schemas.openxmlformats.org/officeDocument/2006/relationships/slide" Target="slides/slide230.xml"/><Relationship Id="rId233" Type="http://schemas.openxmlformats.org/officeDocument/2006/relationships/slide" Target="slides/slide231.xml"/><Relationship Id="rId234" Type="http://schemas.openxmlformats.org/officeDocument/2006/relationships/slide" Target="slides/slide232.xml"/><Relationship Id="rId235" Type="http://schemas.openxmlformats.org/officeDocument/2006/relationships/slide" Target="slides/slide233.xml"/><Relationship Id="rId236" Type="http://schemas.openxmlformats.org/officeDocument/2006/relationships/slide" Target="slides/slide234.xml"/><Relationship Id="rId237" Type="http://schemas.openxmlformats.org/officeDocument/2006/relationships/slide" Target="slides/slide235.xml"/><Relationship Id="rId238" Type="http://schemas.openxmlformats.org/officeDocument/2006/relationships/slide" Target="slides/slide236.xml"/><Relationship Id="rId239" Type="http://schemas.openxmlformats.org/officeDocument/2006/relationships/slide" Target="slides/slide237.xml"/><Relationship Id="rId240" Type="http://schemas.openxmlformats.org/officeDocument/2006/relationships/slide" Target="slides/slide238.xml"/><Relationship Id="rId241" Type="http://schemas.openxmlformats.org/officeDocument/2006/relationships/slide" Target="slides/slide239.xml"/><Relationship Id="rId242" Type="http://schemas.openxmlformats.org/officeDocument/2006/relationships/slide" Target="slides/slide240.xml"/><Relationship Id="rId243" Type="http://schemas.openxmlformats.org/officeDocument/2006/relationships/slide" Target="slides/slide241.xml"/><Relationship Id="rId244" Type="http://schemas.openxmlformats.org/officeDocument/2006/relationships/slide" Target="slides/slide242.xml"/><Relationship Id="rId245" Type="http://schemas.openxmlformats.org/officeDocument/2006/relationships/slide" Target="slides/slide243.xml"/><Relationship Id="rId246" Type="http://schemas.openxmlformats.org/officeDocument/2006/relationships/slide" Target="slides/slide244.xml"/><Relationship Id="rId247" Type="http://schemas.openxmlformats.org/officeDocument/2006/relationships/slide" Target="slides/slide245.xml"/><Relationship Id="rId248" Type="http://schemas.openxmlformats.org/officeDocument/2006/relationships/slide" Target="slides/slide246.xml"/><Relationship Id="rId249" Type="http://schemas.openxmlformats.org/officeDocument/2006/relationships/slide" Target="slides/slide247.xml"/><Relationship Id="rId250" Type="http://schemas.openxmlformats.org/officeDocument/2006/relationships/slide" Target="slides/slide248.xml"/><Relationship Id="rId251" Type="http://schemas.openxmlformats.org/officeDocument/2006/relationships/slide" Target="slides/slide249.xml"/><Relationship Id="rId252" Type="http://schemas.openxmlformats.org/officeDocument/2006/relationships/slide" Target="slides/slide250.xml"/><Relationship Id="rId253" Type="http://schemas.openxmlformats.org/officeDocument/2006/relationships/slide" Target="slides/slide251.xml"/><Relationship Id="rId254" Type="http://schemas.openxmlformats.org/officeDocument/2006/relationships/slide" Target="slides/slide252.xml"/><Relationship Id="rId255" Type="http://schemas.openxmlformats.org/officeDocument/2006/relationships/slide" Target="slides/slide253.xml"/><Relationship Id="rId256" Type="http://schemas.openxmlformats.org/officeDocument/2006/relationships/slide" Target="slides/slide254.xml"/><Relationship Id="rId257" Type="http://schemas.openxmlformats.org/officeDocument/2006/relationships/slide" Target="slides/slide255.xml"/><Relationship Id="rId258" Type="http://schemas.openxmlformats.org/officeDocument/2006/relationships/slide" Target="slides/slide256.xml"/><Relationship Id="rId259" Type="http://schemas.openxmlformats.org/officeDocument/2006/relationships/slide" Target="slides/slide257.xml"/><Relationship Id="rId260" Type="http://schemas.openxmlformats.org/officeDocument/2006/relationships/slide" Target="slides/slide258.xml"/><Relationship Id="rId261" Type="http://schemas.openxmlformats.org/officeDocument/2006/relationships/slide" Target="slides/slide259.xml"/><Relationship Id="rId262" Type="http://schemas.openxmlformats.org/officeDocument/2006/relationships/slide" Target="slides/slide260.xml"/><Relationship Id="rId263" Type="http://schemas.openxmlformats.org/officeDocument/2006/relationships/slide" Target="slides/slide261.xml"/><Relationship Id="rId264" Type="http://schemas.openxmlformats.org/officeDocument/2006/relationships/slide" Target="slides/slide262.xml"/><Relationship Id="rId265" Type="http://schemas.openxmlformats.org/officeDocument/2006/relationships/slide" Target="slides/slide263.xml"/><Relationship Id="rId266" Type="http://schemas.openxmlformats.org/officeDocument/2006/relationships/slide" Target="slides/slide264.xml"/><Relationship Id="rId267" Type="http://schemas.openxmlformats.org/officeDocument/2006/relationships/slide" Target="slides/slide265.xml"/><Relationship Id="rId268" Type="http://schemas.openxmlformats.org/officeDocument/2006/relationships/slide" Target="slides/slide266.xml"/><Relationship Id="rId269" Type="http://schemas.openxmlformats.org/officeDocument/2006/relationships/slide" Target="slides/slide267.xml"/><Relationship Id="rId270" Type="http://schemas.openxmlformats.org/officeDocument/2006/relationships/slide" Target="slides/slide268.xml"/><Relationship Id="rId271" Type="http://schemas.openxmlformats.org/officeDocument/2006/relationships/slide" Target="slides/slide269.xml"/><Relationship Id="rId272" Type="http://schemas.openxmlformats.org/officeDocument/2006/relationships/slide" Target="slides/slide270.xml"/><Relationship Id="rId273" Type="http://schemas.openxmlformats.org/officeDocument/2006/relationships/slide" Target="slides/slide271.xml"/><Relationship Id="rId274" Type="http://schemas.openxmlformats.org/officeDocument/2006/relationships/slide" Target="slides/slide272.xml"/><Relationship Id="rId275" Type="http://schemas.openxmlformats.org/officeDocument/2006/relationships/slide" Target="slides/slide273.xml"/><Relationship Id="rId276" Type="http://schemas.openxmlformats.org/officeDocument/2006/relationships/slide" Target="slides/slide274.xml"/><Relationship Id="rId277" Type="http://schemas.openxmlformats.org/officeDocument/2006/relationships/slide" Target="slides/slide275.xml"/><Relationship Id="rId278" Type="http://schemas.openxmlformats.org/officeDocument/2006/relationships/slide" Target="slides/slide276.xml"/><Relationship Id="rId279" Type="http://schemas.openxmlformats.org/officeDocument/2006/relationships/slide" Target="slides/slide277.xml"/><Relationship Id="rId280" Type="http://schemas.openxmlformats.org/officeDocument/2006/relationships/slide" Target="slides/slide278.xml"/><Relationship Id="rId281" Type="http://schemas.openxmlformats.org/officeDocument/2006/relationships/slide" Target="slides/slide279.xml"/><Relationship Id="rId282" Type="http://schemas.openxmlformats.org/officeDocument/2006/relationships/slide" Target="slides/slide280.xml"/><Relationship Id="rId283" Type="http://schemas.openxmlformats.org/officeDocument/2006/relationships/slide" Target="slides/slide281.xml"/><Relationship Id="rId284" Type="http://schemas.openxmlformats.org/officeDocument/2006/relationships/slide" Target="slides/slide282.xml"/><Relationship Id="rId285" Type="http://schemas.openxmlformats.org/officeDocument/2006/relationships/slide" Target="slides/slide283.xml"/><Relationship Id="rId286" Type="http://schemas.openxmlformats.org/officeDocument/2006/relationships/slide" Target="slides/slide284.xml"/><Relationship Id="rId287" Type="http://schemas.openxmlformats.org/officeDocument/2006/relationships/slide" Target="slides/slide285.xml"/><Relationship Id="rId288" Type="http://schemas.openxmlformats.org/officeDocument/2006/relationships/slide" Target="slides/slide286.xml"/><Relationship Id="rId289" Type="http://schemas.openxmlformats.org/officeDocument/2006/relationships/slide" Target="slides/slide287.xml"/><Relationship Id="rId290" Type="http://schemas.openxmlformats.org/officeDocument/2006/relationships/slide" Target="slides/slide288.xml"/><Relationship Id="rId291" Type="http://schemas.openxmlformats.org/officeDocument/2006/relationships/slide" Target="slides/slide289.xml"/><Relationship Id="rId292" Type="http://schemas.openxmlformats.org/officeDocument/2006/relationships/slide" Target="slides/slide290.xml"/><Relationship Id="rId293" Type="http://schemas.openxmlformats.org/officeDocument/2006/relationships/slide" Target="slides/slide291.xml"/><Relationship Id="rId294" Type="http://schemas.openxmlformats.org/officeDocument/2006/relationships/slide" Target="slides/slide292.xml"/><Relationship Id="rId295" Type="http://schemas.openxmlformats.org/officeDocument/2006/relationships/slide" Target="slides/slide293.xml"/><Relationship Id="rId296" Type="http://schemas.openxmlformats.org/officeDocument/2006/relationships/slide" Target="slides/slide294.xml"/><Relationship Id="rId297" Type="http://schemas.openxmlformats.org/officeDocument/2006/relationships/slide" Target="slides/slide295.xml"/><Relationship Id="rId298" Type="http://schemas.openxmlformats.org/officeDocument/2006/relationships/slide" Target="slides/slide296.xml"/><Relationship Id="rId299" Type="http://schemas.openxmlformats.org/officeDocument/2006/relationships/slide" Target="slides/slide297.xml"/><Relationship Id="rId300" Type="http://schemas.openxmlformats.org/officeDocument/2006/relationships/slide" Target="slides/slide298.xml"/><Relationship Id="rId301" Type="http://schemas.openxmlformats.org/officeDocument/2006/relationships/slide" Target="slides/slide299.xml"/><Relationship Id="rId302" Type="http://schemas.openxmlformats.org/officeDocument/2006/relationships/slide" Target="slides/slide300.xml"/><Relationship Id="rId303" Type="http://schemas.openxmlformats.org/officeDocument/2006/relationships/slide" Target="slides/slide301.xml"/><Relationship Id="rId304" Type="http://schemas.openxmlformats.org/officeDocument/2006/relationships/slide" Target="slides/slide302.xml"/><Relationship Id="rId305" Type="http://schemas.openxmlformats.org/officeDocument/2006/relationships/slide" Target="slides/slide303.xml"/><Relationship Id="rId306" Type="http://schemas.openxmlformats.org/officeDocument/2006/relationships/slide" Target="slides/slide304.xml"/><Relationship Id="rId307" Type="http://schemas.openxmlformats.org/officeDocument/2006/relationships/slide" Target="slides/slide305.xml"/><Relationship Id="rId308" Type="http://schemas.openxmlformats.org/officeDocument/2006/relationships/slide" Target="slides/slide306.xml"/><Relationship Id="rId309" Type="http://schemas.openxmlformats.org/officeDocument/2006/relationships/slide" Target="slides/slide307.xml"/><Relationship Id="rId310" Type="http://schemas.openxmlformats.org/officeDocument/2006/relationships/slide" Target="slides/slide308.xml"/><Relationship Id="rId311" Type="http://schemas.openxmlformats.org/officeDocument/2006/relationships/slide" Target="slides/slide309.xml"/><Relationship Id="rId312" Type="http://schemas.openxmlformats.org/officeDocument/2006/relationships/slide" Target="slides/slide310.xml"/><Relationship Id="rId313" Type="http://schemas.openxmlformats.org/officeDocument/2006/relationships/slide" Target="slides/slide311.xml"/><Relationship Id="rId314" Type="http://schemas.openxmlformats.org/officeDocument/2006/relationships/slide" Target="slides/slide312.xml"/><Relationship Id="rId315" Type="http://schemas.openxmlformats.org/officeDocument/2006/relationships/slide" Target="slides/slide313.xml"/><Relationship Id="rId316" Type="http://schemas.openxmlformats.org/officeDocument/2006/relationships/slide" Target="slides/slide314.xml"/><Relationship Id="rId317" Type="http://schemas.openxmlformats.org/officeDocument/2006/relationships/slide" Target="slides/slide315.xml"/><Relationship Id="rId318" Type="http://schemas.openxmlformats.org/officeDocument/2006/relationships/slide" Target="slides/slide316.xml"/><Relationship Id="rId319" Type="http://schemas.openxmlformats.org/officeDocument/2006/relationships/slide" Target="slides/slide317.xml"/><Relationship Id="rId320" Type="http://schemas.openxmlformats.org/officeDocument/2006/relationships/slide" Target="slides/slide318.xml"/><Relationship Id="rId321" Type="http://schemas.openxmlformats.org/officeDocument/2006/relationships/slide" Target="slides/slide319.xml"/><Relationship Id="rId322" Type="http://schemas.openxmlformats.org/officeDocument/2006/relationships/slide" Target="slides/slide320.xml"/><Relationship Id="rId323" Type="http://schemas.openxmlformats.org/officeDocument/2006/relationships/slide" Target="slides/slide321.xml"/><Relationship Id="rId324" Type="http://schemas.openxmlformats.org/officeDocument/2006/relationships/slide" Target="slides/slide322.xml"/><Relationship Id="rId325" Type="http://schemas.openxmlformats.org/officeDocument/2006/relationships/slide" Target="slides/slide323.xml"/><Relationship Id="rId326" Type="http://schemas.openxmlformats.org/officeDocument/2006/relationships/slide" Target="slides/slide324.xml"/><Relationship Id="rId327" Type="http://schemas.openxmlformats.org/officeDocument/2006/relationships/slide" Target="slides/slide325.xml"/><Relationship Id="rId328" Type="http://schemas.openxmlformats.org/officeDocument/2006/relationships/slide" Target="slides/slide326.xml"/><Relationship Id="rId329" Type="http://schemas.openxmlformats.org/officeDocument/2006/relationships/slide" Target="slides/slide327.xml"/><Relationship Id="rId330" Type="http://schemas.openxmlformats.org/officeDocument/2006/relationships/slide" Target="slides/slide328.xml"/><Relationship Id="rId331" Type="http://schemas.openxmlformats.org/officeDocument/2006/relationships/slide" Target="slides/slide329.xml"/><Relationship Id="rId332" Type="http://schemas.openxmlformats.org/officeDocument/2006/relationships/slide" Target="slides/slide330.xml"/><Relationship Id="rId333" Type="http://schemas.openxmlformats.org/officeDocument/2006/relationships/slide" Target="slides/slide331.xml"/><Relationship Id="rId334" Type="http://schemas.openxmlformats.org/officeDocument/2006/relationships/slide" Target="slides/slide332.xml"/><Relationship Id="rId335" Type="http://schemas.openxmlformats.org/officeDocument/2006/relationships/slide" Target="slides/slide333.xml"/><Relationship Id="rId336" Type="http://schemas.openxmlformats.org/officeDocument/2006/relationships/slide" Target="slides/slide334.xml"/><Relationship Id="rId337" Type="http://schemas.openxmlformats.org/officeDocument/2006/relationships/slide" Target="slides/slide335.xml"/><Relationship Id="rId338" Type="http://schemas.openxmlformats.org/officeDocument/2006/relationships/slide" Target="slides/slide336.xml"/><Relationship Id="rId339" Type="http://schemas.openxmlformats.org/officeDocument/2006/relationships/slide" Target="slides/slide337.xml"/><Relationship Id="rId340" Type="http://schemas.openxmlformats.org/officeDocument/2006/relationships/slide" Target="slides/slide338.xml"/><Relationship Id="rId341" Type="http://schemas.openxmlformats.org/officeDocument/2006/relationships/slide" Target="slides/slide339.xml"/><Relationship Id="rId342" Type="http://schemas.openxmlformats.org/officeDocument/2006/relationships/slide" Target="slides/slide340.xml"/><Relationship Id="rId343" Type="http://schemas.openxmlformats.org/officeDocument/2006/relationships/slide" Target="slides/slide341.xml"/><Relationship Id="rId344" Type="http://schemas.openxmlformats.org/officeDocument/2006/relationships/slide" Target="slides/slide342.xml"/><Relationship Id="rId345" Type="http://schemas.openxmlformats.org/officeDocument/2006/relationships/slide" Target="slides/slide343.xml"/><Relationship Id="rId346" Type="http://schemas.openxmlformats.org/officeDocument/2006/relationships/slide" Target="slides/slide344.xml"/><Relationship Id="rId347" Type="http://schemas.openxmlformats.org/officeDocument/2006/relationships/slide" Target="slides/slide345.xml"/><Relationship Id="rId348" Type="http://schemas.openxmlformats.org/officeDocument/2006/relationships/slide" Target="slides/slide346.xml"/><Relationship Id="rId349" Type="http://schemas.openxmlformats.org/officeDocument/2006/relationships/slide" Target="slides/slide347.xml"/><Relationship Id="rId350" Type="http://schemas.openxmlformats.org/officeDocument/2006/relationships/slide" Target="slides/slide348.xml"/><Relationship Id="rId351" Type="http://schemas.openxmlformats.org/officeDocument/2006/relationships/slide" Target="slides/slide349.xml"/><Relationship Id="rId352" Type="http://schemas.openxmlformats.org/officeDocument/2006/relationships/slide" Target="slides/slide350.xml"/><Relationship Id="rId353" Type="http://schemas.openxmlformats.org/officeDocument/2006/relationships/slide" Target="slides/slide351.xml"/><Relationship Id="rId354" Type="http://schemas.openxmlformats.org/officeDocument/2006/relationships/slide" Target="slides/slide352.xml"/><Relationship Id="rId355" Type="http://schemas.openxmlformats.org/officeDocument/2006/relationships/slide" Target="slides/slide353.xml"/><Relationship Id="rId356" Type="http://schemas.openxmlformats.org/officeDocument/2006/relationships/slide" Target="slides/slide354.xml"/><Relationship Id="rId357" Type="http://schemas.openxmlformats.org/officeDocument/2006/relationships/slide" Target="slides/slide355.xml"/><Relationship Id="rId358" Type="http://schemas.openxmlformats.org/officeDocument/2006/relationships/slide" Target="slides/slide356.xml"/><Relationship Id="rId359" Type="http://schemas.openxmlformats.org/officeDocument/2006/relationships/slide" Target="slides/slide357.xml"/><Relationship Id="rId360" Type="http://schemas.openxmlformats.org/officeDocument/2006/relationships/slide" Target="slides/slide358.xml"/><Relationship Id="rId361" Type="http://schemas.openxmlformats.org/officeDocument/2006/relationships/slide" Target="slides/slide359.xml"/><Relationship Id="rId362" Type="http://schemas.openxmlformats.org/officeDocument/2006/relationships/slide" Target="slides/slide360.xml"/><Relationship Id="rId363" Type="http://schemas.openxmlformats.org/officeDocument/2006/relationships/slide" Target="slides/slide361.xml"/><Relationship Id="rId364" Type="http://schemas.openxmlformats.org/officeDocument/2006/relationships/slide" Target="slides/slide362.xml"/><Relationship Id="rId365" Type="http://schemas.openxmlformats.org/officeDocument/2006/relationships/slide" Target="slides/slide363.xml"/><Relationship Id="rId366" Type="http://schemas.openxmlformats.org/officeDocument/2006/relationships/slide" Target="slides/slide364.xml"/><Relationship Id="rId367" Type="http://schemas.openxmlformats.org/officeDocument/2006/relationships/slide" Target="slides/slide365.xml"/><Relationship Id="rId368" Type="http://schemas.openxmlformats.org/officeDocument/2006/relationships/slide" Target="slides/slide366.xml"/><Relationship Id="rId369" Type="http://schemas.openxmlformats.org/officeDocument/2006/relationships/slide" Target="slides/slide367.xml"/><Relationship Id="rId370" Type="http://schemas.openxmlformats.org/officeDocument/2006/relationships/slide" Target="slides/slide368.xml"/><Relationship Id="rId371" Type="http://schemas.openxmlformats.org/officeDocument/2006/relationships/slide" Target="slides/slide369.xml"/><Relationship Id="rId372" Type="http://schemas.openxmlformats.org/officeDocument/2006/relationships/slide" Target="slides/slide370.xml"/><Relationship Id="rId373" Type="http://schemas.openxmlformats.org/officeDocument/2006/relationships/slide" Target="slides/slide371.xml"/><Relationship Id="rId374" Type="http://schemas.openxmlformats.org/officeDocument/2006/relationships/slide" Target="slides/slide372.xml"/><Relationship Id="rId375" Type="http://schemas.openxmlformats.org/officeDocument/2006/relationships/slide" Target="slides/slide373.xml"/><Relationship Id="rId376" Type="http://schemas.openxmlformats.org/officeDocument/2006/relationships/slide" Target="slides/slide374.xml"/><Relationship Id="rId377" Type="http://schemas.openxmlformats.org/officeDocument/2006/relationships/slide" Target="slides/slide375.xml"/><Relationship Id="rId378" Type="http://schemas.openxmlformats.org/officeDocument/2006/relationships/slide" Target="slides/slide376.xml"/><Relationship Id="rId379" Type="http://schemas.openxmlformats.org/officeDocument/2006/relationships/slide" Target="slides/slide377.xml"/><Relationship Id="rId380" Type="http://schemas.openxmlformats.org/officeDocument/2006/relationships/slide" Target="slides/slide378.xml"/><Relationship Id="rId381" Type="http://schemas.openxmlformats.org/officeDocument/2006/relationships/slide" Target="slides/slide379.xml"/><Relationship Id="rId382" Type="http://schemas.openxmlformats.org/officeDocument/2006/relationships/slide" Target="slides/slide380.xml"/><Relationship Id="rId383" Type="http://schemas.openxmlformats.org/officeDocument/2006/relationships/slide" Target="slides/slide381.xml"/><Relationship Id="rId384" Type="http://schemas.openxmlformats.org/officeDocument/2006/relationships/slide" Target="slides/slide382.xml"/><Relationship Id="rId385" Type="http://schemas.openxmlformats.org/officeDocument/2006/relationships/slide" Target="slides/slide383.xml"/><Relationship Id="rId386" Type="http://schemas.openxmlformats.org/officeDocument/2006/relationships/slide" Target="slides/slide384.xml"/><Relationship Id="rId387" Type="http://schemas.openxmlformats.org/officeDocument/2006/relationships/slide" Target="slides/slide385.xml"/><Relationship Id="rId388" Type="http://schemas.openxmlformats.org/officeDocument/2006/relationships/slide" Target="slides/slide386.xml"/><Relationship Id="rId389" Type="http://schemas.openxmlformats.org/officeDocument/2006/relationships/slide" Target="slides/slide387.xml"/><Relationship Id="rId390" Type="http://schemas.openxmlformats.org/officeDocument/2006/relationships/slide" Target="slides/slide388.xml"/><Relationship Id="rId391" Type="http://schemas.openxmlformats.org/officeDocument/2006/relationships/slide" Target="slides/slide389.xml"/><Relationship Id="rId392" Type="http://schemas.openxmlformats.org/officeDocument/2006/relationships/slide" Target="slides/slide390.xml"/><Relationship Id="rId393" Type="http://schemas.openxmlformats.org/officeDocument/2006/relationships/slide" Target="slides/slide391.xml"/><Relationship Id="rId394" Type="http://schemas.openxmlformats.org/officeDocument/2006/relationships/slide" Target="slides/slide392.xml"/><Relationship Id="rId395" Type="http://schemas.openxmlformats.org/officeDocument/2006/relationships/slide" Target="slides/slide393.xml"/><Relationship Id="rId396" Type="http://schemas.openxmlformats.org/officeDocument/2006/relationships/slide" Target="slides/slide394.xml"/><Relationship Id="rId397" Type="http://schemas.openxmlformats.org/officeDocument/2006/relationships/slide" Target="slides/slide395.xml"/><Relationship Id="rId398" Type="http://schemas.openxmlformats.org/officeDocument/2006/relationships/slide" Target="slides/slide396.xml"/><Relationship Id="rId399" Type="http://schemas.openxmlformats.org/officeDocument/2006/relationships/slide" Target="slides/slide397.xml"/><Relationship Id="rId400" Type="http://schemas.openxmlformats.org/officeDocument/2006/relationships/slide" Target="slides/slide398.xml"/><Relationship Id="rId401" Type="http://schemas.openxmlformats.org/officeDocument/2006/relationships/slide" Target="slides/slide399.xml"/><Relationship Id="rId402" Type="http://schemas.openxmlformats.org/officeDocument/2006/relationships/slide" Target="slides/slide400.xml"/><Relationship Id="rId403" Type="http://schemas.openxmlformats.org/officeDocument/2006/relationships/slide" Target="slides/slide401.xml"/><Relationship Id="rId404" Type="http://schemas.openxmlformats.org/officeDocument/2006/relationships/slide" Target="slides/slide402.xml"/><Relationship Id="rId405" Type="http://schemas.openxmlformats.org/officeDocument/2006/relationships/slide" Target="slides/slide403.xml"/><Relationship Id="rId406" Type="http://schemas.openxmlformats.org/officeDocument/2006/relationships/slide" Target="slides/slide404.xml"/><Relationship Id="rId407" Type="http://schemas.openxmlformats.org/officeDocument/2006/relationships/slide" Target="slides/slide405.xml"/><Relationship Id="rId408" Type="http://schemas.openxmlformats.org/officeDocument/2006/relationships/slide" Target="slides/slide406.xml"/><Relationship Id="rId409" Type="http://schemas.openxmlformats.org/officeDocument/2006/relationships/slide" Target="slides/slide407.xml"/><Relationship Id="rId410" Type="http://schemas.openxmlformats.org/officeDocument/2006/relationships/slide" Target="slides/slide408.xml"/><Relationship Id="rId411" Type="http://schemas.openxmlformats.org/officeDocument/2006/relationships/slide" Target="slides/slide409.xml"/><Relationship Id="rId412" Type="http://schemas.openxmlformats.org/officeDocument/2006/relationships/slide" Target="slides/slide410.xml"/><Relationship Id="rId413" Type="http://schemas.openxmlformats.org/officeDocument/2006/relationships/slide" Target="slides/slide411.xml"/><Relationship Id="rId414" Type="http://schemas.openxmlformats.org/officeDocument/2006/relationships/slide" Target="slides/slide412.xml"/><Relationship Id="rId415" Type="http://schemas.openxmlformats.org/officeDocument/2006/relationships/slide" Target="slides/slide413.xml"/><Relationship Id="rId416" Type="http://schemas.openxmlformats.org/officeDocument/2006/relationships/slide" Target="slides/slide414.xml"/><Relationship Id="rId417" Type="http://schemas.openxmlformats.org/officeDocument/2006/relationships/slide" Target="slides/slide415.xml"/><Relationship Id="rId418" Type="http://schemas.openxmlformats.org/officeDocument/2006/relationships/slide" Target="slides/slide416.xml"/><Relationship Id="rId419" Type="http://schemas.openxmlformats.org/officeDocument/2006/relationships/slide" Target="slides/slide417.xml"/><Relationship Id="rId420" Type="http://schemas.openxmlformats.org/officeDocument/2006/relationships/slide" Target="slides/slide418.xml"/><Relationship Id="rId421" Type="http://schemas.openxmlformats.org/officeDocument/2006/relationships/slide" Target="slides/slide419.xml"/><Relationship Id="rId422" Type="http://schemas.openxmlformats.org/officeDocument/2006/relationships/slide" Target="slides/slide420.xml"/><Relationship Id="rId423" Type="http://schemas.openxmlformats.org/officeDocument/2006/relationships/slide" Target="slides/slide421.xml"/><Relationship Id="rId424" Type="http://schemas.openxmlformats.org/officeDocument/2006/relationships/slide" Target="slides/slide422.xml"/><Relationship Id="rId425" Type="http://schemas.openxmlformats.org/officeDocument/2006/relationships/slide" Target="slides/slide423.xml"/><Relationship Id="rId426" Type="http://schemas.openxmlformats.org/officeDocument/2006/relationships/slide" Target="slides/slide424.xml"/><Relationship Id="rId427" Type="http://schemas.openxmlformats.org/officeDocument/2006/relationships/slide" Target="slides/slide425.xml"/><Relationship Id="rId428" Type="http://schemas.openxmlformats.org/officeDocument/2006/relationships/slide" Target="slides/slide426.xml"/><Relationship Id="rId429" Type="http://schemas.openxmlformats.org/officeDocument/2006/relationships/slide" Target="slides/slide427.xml"/><Relationship Id="rId430" Type="http://schemas.openxmlformats.org/officeDocument/2006/relationships/slide" Target="slides/slide428.xml"/><Relationship Id="rId431" Type="http://schemas.openxmlformats.org/officeDocument/2006/relationships/slide" Target="slides/slide429.xml"/><Relationship Id="rId432" Type="http://schemas.openxmlformats.org/officeDocument/2006/relationships/slide" Target="slides/slide430.xml"/><Relationship Id="rId433" Type="http://schemas.openxmlformats.org/officeDocument/2006/relationships/slide" Target="slides/slide431.xml"/><Relationship Id="rId434" Type="http://schemas.openxmlformats.org/officeDocument/2006/relationships/slide" Target="slides/slide432.xml"/><Relationship Id="rId435" Type="http://schemas.openxmlformats.org/officeDocument/2006/relationships/slide" Target="slides/slide433.xml"/><Relationship Id="rId436" Type="http://schemas.openxmlformats.org/officeDocument/2006/relationships/slide" Target="slides/slide434.xml"/><Relationship Id="rId437" Type="http://schemas.openxmlformats.org/officeDocument/2006/relationships/slide" Target="slides/slide435.xml"/><Relationship Id="rId438" Type="http://schemas.openxmlformats.org/officeDocument/2006/relationships/slide" Target="slides/slide436.xml"/><Relationship Id="rId439" Type="http://schemas.openxmlformats.org/officeDocument/2006/relationships/slide" Target="slides/slide437.xml"/><Relationship Id="rId440" Type="http://schemas.openxmlformats.org/officeDocument/2006/relationships/slide" Target="slides/slide438.xml"/><Relationship Id="rId441" Type="http://schemas.openxmlformats.org/officeDocument/2006/relationships/slide" Target="slides/slide439.xml"/><Relationship Id="rId442" Type="http://schemas.openxmlformats.org/officeDocument/2006/relationships/slide" Target="slides/slide440.xml"/><Relationship Id="rId443" Type="http://schemas.openxmlformats.org/officeDocument/2006/relationships/slide" Target="slides/slide441.xml"/><Relationship Id="rId444" Type="http://schemas.openxmlformats.org/officeDocument/2006/relationships/slide" Target="slides/slide442.xml"/><Relationship Id="rId445" Type="http://schemas.openxmlformats.org/officeDocument/2006/relationships/slide" Target="slides/slide443.xml"/><Relationship Id="rId446" Type="http://schemas.openxmlformats.org/officeDocument/2006/relationships/slide" Target="slides/slide444.xml"/><Relationship Id="rId447" Type="http://schemas.openxmlformats.org/officeDocument/2006/relationships/slide" Target="slides/slide445.xml"/><Relationship Id="rId448" Type="http://schemas.openxmlformats.org/officeDocument/2006/relationships/slide" Target="slides/slide446.xml"/><Relationship Id="rId449" Type="http://schemas.openxmlformats.org/officeDocument/2006/relationships/slide" Target="slides/slide447.xml"/><Relationship Id="rId450" Type="http://schemas.openxmlformats.org/officeDocument/2006/relationships/slide" Target="slides/slide448.xml"/><Relationship Id="rId451" Type="http://schemas.openxmlformats.org/officeDocument/2006/relationships/slide" Target="slides/slide449.xml"/><Relationship Id="rId452" Type="http://schemas.openxmlformats.org/officeDocument/2006/relationships/slide" Target="slides/slide450.xml"/><Relationship Id="rId453" Type="http://schemas.openxmlformats.org/officeDocument/2006/relationships/slide" Target="slides/slide451.xml"/><Relationship Id="rId454" Type="http://schemas.openxmlformats.org/officeDocument/2006/relationships/slide" Target="slides/slide452.xml"/><Relationship Id="rId455" Type="http://schemas.openxmlformats.org/officeDocument/2006/relationships/slide" Target="slides/slide453.xml"/><Relationship Id="rId456" Type="http://schemas.openxmlformats.org/officeDocument/2006/relationships/slide" Target="slides/slide454.xml"/><Relationship Id="rId457" Type="http://schemas.openxmlformats.org/officeDocument/2006/relationships/slide" Target="slides/slide455.xml"/><Relationship Id="rId458" Type="http://schemas.openxmlformats.org/officeDocument/2006/relationships/slide" Target="slides/slide456.xml"/><Relationship Id="rId459" Type="http://schemas.openxmlformats.org/officeDocument/2006/relationships/slide" Target="slides/slide457.xml"/><Relationship Id="rId460" Type="http://schemas.openxmlformats.org/officeDocument/2006/relationships/slide" Target="slides/slide458.xml"/><Relationship Id="rId461" Type="http://schemas.openxmlformats.org/officeDocument/2006/relationships/slide" Target="slides/slide459.xml"/><Relationship Id="rId462" Type="http://schemas.openxmlformats.org/officeDocument/2006/relationships/slide" Target="slides/slide460.xml"/><Relationship Id="rId463" Type="http://schemas.openxmlformats.org/officeDocument/2006/relationships/slide" Target="slides/slide461.xml"/><Relationship Id="rId464" Type="http://schemas.openxmlformats.org/officeDocument/2006/relationships/slide" Target="slides/slide462.xml"/><Relationship Id="rId465" Type="http://schemas.openxmlformats.org/officeDocument/2006/relationships/slide" Target="slides/slide463.xml"/><Relationship Id="rId466" Type="http://schemas.openxmlformats.org/officeDocument/2006/relationships/slide" Target="slides/slide464.xml"/><Relationship Id="rId467" Type="http://schemas.openxmlformats.org/officeDocument/2006/relationships/slide" Target="slides/slide465.xml"/><Relationship Id="rId468" Type="http://schemas.openxmlformats.org/officeDocument/2006/relationships/slide" Target="slides/slide466.xml"/><Relationship Id="rId469" Type="http://schemas.openxmlformats.org/officeDocument/2006/relationships/slide" Target="slides/slide467.xml"/><Relationship Id="rId470" Type="http://schemas.openxmlformats.org/officeDocument/2006/relationships/slide" Target="slides/slide468.xml"/><Relationship Id="rId471" Type="http://schemas.openxmlformats.org/officeDocument/2006/relationships/slide" Target="slides/slide469.xml"/><Relationship Id="rId472" Type="http://schemas.openxmlformats.org/officeDocument/2006/relationships/slide" Target="slides/slide470.xml"/><Relationship Id="rId473" Type="http://schemas.openxmlformats.org/officeDocument/2006/relationships/slide" Target="slides/slide471.xml"/><Relationship Id="rId474" Type="http://schemas.openxmlformats.org/officeDocument/2006/relationships/slide" Target="slides/slide472.xml"/><Relationship Id="rId475" Type="http://schemas.openxmlformats.org/officeDocument/2006/relationships/slide" Target="slides/slide473.xml"/><Relationship Id="rId476" Type="http://schemas.openxmlformats.org/officeDocument/2006/relationships/slide" Target="slides/slide474.xml"/><Relationship Id="rId477" Type="http://schemas.openxmlformats.org/officeDocument/2006/relationships/slide" Target="slides/slide475.xml"/><Relationship Id="rId478" Type="http://schemas.openxmlformats.org/officeDocument/2006/relationships/slide" Target="slides/slide476.xml"/><Relationship Id="rId479" Type="http://schemas.openxmlformats.org/officeDocument/2006/relationships/slide" Target="slides/slide477.xml"/><Relationship Id="rId480" Type="http://schemas.openxmlformats.org/officeDocument/2006/relationships/slide" Target="slides/slide478.xml"/><Relationship Id="rId481" Type="http://schemas.openxmlformats.org/officeDocument/2006/relationships/slide" Target="slides/slide479.xml"/><Relationship Id="rId482" Type="http://schemas.openxmlformats.org/officeDocument/2006/relationships/slide" Target="slides/slide480.xml"/><Relationship Id="rId483" Type="http://schemas.openxmlformats.org/officeDocument/2006/relationships/slide" Target="slides/slide481.xml"/><Relationship Id="rId484" Type="http://schemas.openxmlformats.org/officeDocument/2006/relationships/slide" Target="slides/slide482.xml"/><Relationship Id="rId485" Type="http://schemas.openxmlformats.org/officeDocument/2006/relationships/slide" Target="slides/slide483.xml"/><Relationship Id="rId486" Type="http://schemas.openxmlformats.org/officeDocument/2006/relationships/slide" Target="slides/slide484.xml"/><Relationship Id="rId487" Type="http://schemas.openxmlformats.org/officeDocument/2006/relationships/slide" Target="slides/slide485.xml"/><Relationship Id="rId488" Type="http://schemas.openxmlformats.org/officeDocument/2006/relationships/slide" Target="slides/slide486.xml"/><Relationship Id="rId489" Type="http://schemas.openxmlformats.org/officeDocument/2006/relationships/slide" Target="slides/slide487.xml"/><Relationship Id="rId490" Type="http://schemas.openxmlformats.org/officeDocument/2006/relationships/slide" Target="slides/slide488.xml"/><Relationship Id="rId491" Type="http://schemas.openxmlformats.org/officeDocument/2006/relationships/slide" Target="slides/slide489.xml"/><Relationship Id="rId492" Type="http://schemas.openxmlformats.org/officeDocument/2006/relationships/slide" Target="slides/slide490.xml"/><Relationship Id="rId493" Type="http://schemas.openxmlformats.org/officeDocument/2006/relationships/slide" Target="slides/slide491.xml"/><Relationship Id="rId494" Type="http://schemas.openxmlformats.org/officeDocument/2006/relationships/slide" Target="slides/slide492.xml"/><Relationship Id="rId495" Type="http://schemas.openxmlformats.org/officeDocument/2006/relationships/slide" Target="slides/slide493.xml"/><Relationship Id="rId496" Type="http://schemas.openxmlformats.org/officeDocument/2006/relationships/slide" Target="slides/slide494.xml"/><Relationship Id="rId497" Type="http://schemas.openxmlformats.org/officeDocument/2006/relationships/slide" Target="slides/slide495.xml"/><Relationship Id="rId498" Type="http://schemas.openxmlformats.org/officeDocument/2006/relationships/slide" Target="slides/slide496.xml"/><Relationship Id="rId499" Type="http://schemas.openxmlformats.org/officeDocument/2006/relationships/slide" Target="slides/slide497.xml"/><Relationship Id="rId500" Type="http://schemas.openxmlformats.org/officeDocument/2006/relationships/slide" Target="slides/slide498.xml"/><Relationship Id="rId501" Type="http://schemas.openxmlformats.org/officeDocument/2006/relationships/slide" Target="slides/slide499.xml"/><Relationship Id="rId502" Type="http://schemas.openxmlformats.org/officeDocument/2006/relationships/slide" Target="slides/slide500.xml"/><Relationship Id="rId503" Type="http://schemas.openxmlformats.org/officeDocument/2006/relationships/slide" Target="slides/slide501.xml"/><Relationship Id="rId504" Type="http://schemas.openxmlformats.org/officeDocument/2006/relationships/slide" Target="slides/slide502.xml"/><Relationship Id="rId505" Type="http://schemas.openxmlformats.org/officeDocument/2006/relationships/slide" Target="slides/slide503.xml"/><Relationship Id="rId506" Type="http://schemas.openxmlformats.org/officeDocument/2006/relationships/slide" Target="slides/slide504.xml"/><Relationship Id="rId507" Type="http://schemas.openxmlformats.org/officeDocument/2006/relationships/slide" Target="slides/slide505.xml"/><Relationship Id="rId508" Type="http://schemas.openxmlformats.org/officeDocument/2006/relationships/slide" Target="slides/slide506.xml"/><Relationship Id="rId509" Type="http://schemas.openxmlformats.org/officeDocument/2006/relationships/slide" Target="slides/slide507.xml"/><Relationship Id="rId510" Type="http://schemas.openxmlformats.org/officeDocument/2006/relationships/slide" Target="slides/slide508.xml"/><Relationship Id="rId511" Type="http://schemas.openxmlformats.org/officeDocument/2006/relationships/slide" Target="slides/slide509.xml"/><Relationship Id="rId512" Type="http://schemas.openxmlformats.org/officeDocument/2006/relationships/slide" Target="slides/slide510.xml"/><Relationship Id="rId513" Type="http://schemas.openxmlformats.org/officeDocument/2006/relationships/slide" Target="slides/slide511.xml"/><Relationship Id="rId514" Type="http://schemas.openxmlformats.org/officeDocument/2006/relationships/slide" Target="slides/slide512.xml"/><Relationship Id="rId515" Type="http://schemas.openxmlformats.org/officeDocument/2006/relationships/slide" Target="slides/slide513.xml"/><Relationship Id="rId516" Type="http://schemas.openxmlformats.org/officeDocument/2006/relationships/slide" Target="slides/slide514.xml"/><Relationship Id="rId517" Type="http://schemas.openxmlformats.org/officeDocument/2006/relationships/slide" Target="slides/slide515.xml"/><Relationship Id="rId518" Type="http://schemas.openxmlformats.org/officeDocument/2006/relationships/slide" Target="slides/slide516.xml"/><Relationship Id="rId519" Type="http://schemas.openxmlformats.org/officeDocument/2006/relationships/slide" Target="slides/slide517.xml"/><Relationship Id="rId520" Type="http://schemas.openxmlformats.org/officeDocument/2006/relationships/slide" Target="slides/slide518.xml"/><Relationship Id="rId521" Type="http://schemas.openxmlformats.org/officeDocument/2006/relationships/slide" Target="slides/slide519.xml"/><Relationship Id="rId522" Type="http://schemas.openxmlformats.org/officeDocument/2006/relationships/slide" Target="slides/slide520.xml"/><Relationship Id="rId523" Type="http://schemas.openxmlformats.org/officeDocument/2006/relationships/slide" Target="slides/slide521.xml"/><Relationship Id="rId524" Type="http://schemas.openxmlformats.org/officeDocument/2006/relationships/slide" Target="slides/slide522.xml"/><Relationship Id="rId525" Type="http://schemas.openxmlformats.org/officeDocument/2006/relationships/slide" Target="slides/slide523.xml"/><Relationship Id="rId526" Type="http://schemas.openxmlformats.org/officeDocument/2006/relationships/slide" Target="slides/slide524.xml"/><Relationship Id="rId527" Type="http://schemas.openxmlformats.org/officeDocument/2006/relationships/slide" Target="slides/slide525.xml"/><Relationship Id="rId528" Type="http://schemas.openxmlformats.org/officeDocument/2006/relationships/slide" Target="slides/slide526.xml"/><Relationship Id="rId529" Type="http://schemas.openxmlformats.org/officeDocument/2006/relationships/slide" Target="slides/slide527.xml"/><Relationship Id="rId5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F47A-57AF-431A-B7CD-2DCE14E0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6A5-881E-4386-9671-39DC4126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7118-78D9-4CF2-A554-511F3897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13F5-F117-4984-B62F-31BE1C03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6DC1-8B85-447C-BA58-296083C5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DDD6-9AA8-4C6B-BA19-3F525E96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5B1-F141-4A1A-BDA5-998ACD5C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1B6F-EB2C-4E82-8BA3-B83E88B5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5100-F6F0-415C-AAC0-FED814E8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AECD-E149-42E2-B7E5-D25B1C97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080F-870F-488B-8C5E-036540DF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FEC6-F1A5-41D3-AD39-A04A054F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26CE-A1F6-4299-9CF1-D2AE30C08887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榮耀歸於真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神得著榮耀 祂行了大事</a:t>
            </a:r>
            <a:br>
              <a:rPr sz="6000"/>
            </a:b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因愛惜我世人竟賜其愛子</a:t>
            </a:r>
            <a:br>
              <a:rPr sz="6000"/>
            </a:b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流血捨祂性命 為我們贖罪</a:t>
            </a:r>
            <a:br>
              <a:rPr sz="6000"/>
            </a:b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將恩門大開放使萬人入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當我經過 綠蔭的樹林底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聽鳥兒 在那樹上鳴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當我俯視 山澗的流水迴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微風迎面 拂拭我的衣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絢爛錫安諸殿堂 到處歌聲洋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光耀天使明照眼 聖徒熙熙攘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聖主永遠為君王 聖庭永遠清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聖地花草盡奇珍 聖民永遠撫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彼有大衛寶座 在彼憂慮全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羔羊筵前齊歡呼 凱旋信眾高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昔日偕主得勝者 在彼尊貴顯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俱戴光榮之冠冕 俱著白衣灼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甘美榮樂之寶地是神選民家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潔淨無瑕之聖城 我靈切切仰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懇求慈愛主耶穌 攜我到彼同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聖父聖子聖靈 同享安樂無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我心尊主為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尊主為大 尊主為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靈以神我的救主為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尊主為大 尊主為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靈以神我的救主為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我來敬拜全能的大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來敬拜全能的大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愛在耶穌裡顯出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獻自己予無窮之力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此大力竟來愛我這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用再想到我的自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讓我沈入你愛的海洋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 你何等縈繞我心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心也何等戀慕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溫柔又強烈的愛吸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傾所有都來奔向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 甘甜良人善美本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已揀選我 我也選擇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永為是 又是我所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深覺必須完全為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非囿於受造或恩賜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只安息 安息你裡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此處安穩 此處享受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故我跟隨你有福的吸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為你永獻全心全生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救贖主你 我唯一好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為著我將性命全傾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你寶血我得蒙救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救恩救自最深的墮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願為你永獻全心所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魂歌頌 讚揚我主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偉大 何等偉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魂歌頌 讚揚我主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偉大 何等偉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 願你聖善的尊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永遠銘刻在我心深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你甜蜜與榮耀的同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時刻深印我心與意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言語 工作 並一切行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讓耶穌顯明祂的榮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主耶穌寶貴聖名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天父心意向我們開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賜一泉充滿愛 平安 喜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近在咫尺 豐盛湧不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父啊 一旦罪人能明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他的全人必飛奔來愛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我每時刻要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每時刻要你 救主恩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誰有柔聲似你 足慰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你 主 我要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每時刻我要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望主隨時施恩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來就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每時刻要你與我親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魔鬼若來試探 使我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你 主 我要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每時刻我要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望主隨時施恩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來就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每時刻要你 或憂或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若不來同居 我就枉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你 主 我要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每時刻我要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望主隨時施恩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來就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每時刻要你 賜我恩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主寶貝應許 於我成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當我忖度 神不吝差遣愛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專為人死 實為人難體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十字架上 祂背負我的重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流血與水 解決我雙重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你 主 我要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每時刻我要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望主隨時施恩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來就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每時刻要你 主旨遵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天天查考聖經 到主再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你 主 我要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每時刻我要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望主隨時施恩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來就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住在主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在主裡面 無上的福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常與主交通 甜美的經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在主裡面 主與我聯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常與主交通 與主無間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在主裡面 恩膏必運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常與主交通 聖靈必引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順服主恩膏 得享主肥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跟隨主聖靈 必作主同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在主裡面 恩光必照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常與主交通 黑影必除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恩光一順從 生命必增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黑影全脫離 心靈才舒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在主裡面 軟弱變剛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常與主交通 生命吞死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在主裡面 歎息變歌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常與主交通 喜樂代憂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在主裡面 撒但難攻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常與主交通 世俗失吸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在主裡面 罪惡無權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常與主交通 自己必消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在主裡面 模成主榮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常與主交通 充滿主生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在主裡面 經歷主大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常與主交通 吸取主豐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魂歌頌 讚揚我主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偉大 何等偉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魂歌頌 讚揚我主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偉大 何等偉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7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在主裡面 心靈在渴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常與主交通 聖靈在催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願我全人 浸在主裡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主溶為一 從今到永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耶穌我生命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(</a:t>
            </a: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從我活出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......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從我活出你的自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 你是我生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對於我的所有問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求你以你為答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從我活出你的自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切事上能隨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不過是透明用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為著彰顯你祕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殿宇今已完全奉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已除所有的不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願你的榮耀火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今從裡面就露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全地現在都當肅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身體今進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作你順服安靜奴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只有被你來推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所有肢體每個時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約束 等候你發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準備為你前來負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或是不用放一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約束 沒有不安追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沒有緊張與受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沒有因受對付怨尤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沒有因懊悔倒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乃是柔軟安靜安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脫離傾向與成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讓你能夠自由定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當你對我有指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從我活出你的自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你是我生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對於我的所有問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求你以你為答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基督再臨 歡呼喝釆盈天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欲提我去 我心欣然歡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那日我 必謙卑俯伏敬拜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要宣揚 我主我神奇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十架永遠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十架永遠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十架將敵除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陰府雖然兇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世界雖然翻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肉體雖然還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十架使我仍誇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基督十架永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仗主十架我誇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十架是我生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十架賜我權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過人情自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過世界勢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過一切仇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十架使我勝無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基督十架永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仗主十架我誇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十架是我旌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永遠舉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軟弱變為剛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下沉變為高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黑暗變為明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十架使我得釋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基督十架永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仗主十架我誇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魂歌頌 讚揚我主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偉大 何等偉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魂歌頌 讚揚我主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偉大 何等偉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充滿我心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求充滿我心 一切異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今只見耶穌 是我懇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雖經死蔭谷 救主前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榮耀光浪 四繞無消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心景 神聖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主榮耀從我靈映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心景 致能共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聖潔容形 自我內映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心景 使我每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皆為主榮耀 心靈長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矢效主完全 聖愛光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照浮生小徑 烈烈自高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1"/>
          <p:cNvSpPr/>
          <p:nvPr/>
        </p:nvSpPr>
        <p:spPr>
          <a:xfrm>
            <a:off x="3048120" y="269064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副歌</a:t>
            </a:r>
            <a:r>
              <a:rPr b="0" lang="en-US" sz="16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充滿我心景 神聖救主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直到主榮耀從我靈映出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充滿我心景 致能共睹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主聖潔容形 自我內映出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心景 神聖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主榮耀從我靈映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心景 致能共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聖潔容形 自我內映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心景 使無罪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免遮蔽我衷 光華輝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我只見你 有福面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魂長飽享你無限恩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心景 神聖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主榮耀從我靈映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心景 致能共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聖潔容形 自我內映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默念我主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(</a:t>
            </a: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主啊在你面前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......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啊 在你面前我心何其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遭難時你懷中可投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白晝之安慰 我黑夜之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指望我救主 我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哎 親愛的牧者去那裡放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以愛領到那塊草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為何我在死蔭之幽谷心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為何我在曠野飲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為何我要飄流而遠離了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沙漠中哭號求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仇敵一見我流淚必暗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必笑我因貪食而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問錫安眾女子請你告訴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有否看見雅各之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良人曾否由你帳棚經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何處將羊群前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啊 良人一舉目眾天使下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面前有萬軍敬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良人一開口全宇宙傳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到永遠應聲讚美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最親愛的牧者 我來跟隨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認得你召我美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求甦醒我靈魂 惟你合我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你常常滿足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你名似膏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名似膏香 你愛比酒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若來吸引 有誰不跟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若跟隨羊群的腳蹤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必進入你愛的交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我良人 我是祂佳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將我吸引 我將祂追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香如沒藥 我願藏心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美似鳳仙 我願戴身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進入祂愛裡 享受祂肥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躺在祂懷中 飽嘗祂香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愛為旌旗 將我身遮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情似美物 使我心舒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良人屬於我 我也屬於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牧養者 我是百合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願天快曙 黑影全飛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見祂如朝鹿 顯在比特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同死的沒藥 復活的乳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將我薰透 好給祂欣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北風阿興起 南風阿吹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使我心園 成為祂心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神聖膏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用喜樂油膏我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終日喜笑滿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這罪人何竟蒙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信靠祂話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在祂眼中 美麗如良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在祂面前 皎潔似百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全屬祂 作祂樂中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祂全屬我 是我歌中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7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美麗如月亮 得有祂形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光明似太陽 得有祂身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全屬我良人 使祂被顯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全為我良人 使祂心舒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8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我生命 我是你活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情的聯結 如死之堅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何能消滅 無何能替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你顯現 在那香草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當神率領以色列眾軍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圍繞耶利哥城牆輕輕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專心倚靠主 隱聞得勝腳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信心看見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利在前面 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著耶穌寶血 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專心倚靠主 我聞得勝腳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信心看見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大衛攜五塊圓石佩彈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獨自迎戰那巨人赴沙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專心倚靠主 他深知主應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信心看見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利在前面 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著耶穌寶血 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專心倚靠主 我聞得勝腳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信心看見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以理每日三次禱告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卻遭陷害入獅坑受試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專心倚靠主 他堅定不喪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信心看見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利在前面 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著耶穌寶血 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專心倚靠主 我聞得勝腳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信心看見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 神聖膏抹 管治並運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你同在充滿我全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若有眾試煉苦難圍繞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立刻仰望主耶穌讚美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專心倚靠主 忠心作主精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信心看見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利在前面 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著耶穌寶血 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專心倚靠主 我聞得勝腳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信心看見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曙光已現我隱聞號角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挺身昂首要忠心打美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專心倚靠主 我們齊步往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信心看見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利在前面 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著耶穌寶血 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專心倚靠主 我聞得勝腳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信心看見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願你為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你為大 哦 主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條 話語 虛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屬人的會 屬世的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能與你相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你為大 哦 主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征服了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靠你十架 我向己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完全為你而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你為大 哦 主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全人被你充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我思想像你思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喜歡像你喜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你為大 哦 主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把我改變全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穿這幔子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軟弱肉體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顯出你的榮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你為大 哦 主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真是要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作你奴僕 行你旨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生不再自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救恩泉源近在咫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奇妙恍如夢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俯伏加略歡然取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福杯立時滿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耶穌我魂避難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 我魂避難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容我投你懷中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波濤滾滾浩無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風雷一片破空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求主藏我在此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等此風濤漸停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引我平安入天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至終接納我靈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此外別無避難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賴救主保護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求勿遺我致孤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仍舊扶持賜平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惟有主可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力全由主所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可憐我身無蔭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求主在上常覆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所需全在主身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所得過於我所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仆蒙扶起弱蒙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病蒙醫治瞽蒙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名至義至聖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無一善惟罪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虛偽惡遍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恩寵真理主充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主恩典真無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此恩能掩我惡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醫病恩泉望湧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保我心清無惡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主就是生命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讓我盡量飲活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主在我心湧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直湧到永生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讚美神 讚美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願天地合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讚美神 讚美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願百姓同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拜天上父神 靠耶穌神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將榮耀全歸祂 祂行了大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 神聖膏抹 管治並運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你同在充滿我全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耶穌你的全勝的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 你的全勝的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已經澆灌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就不再會搖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就能生根於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就能生根於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願聖火今在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就已發旺不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燒掉所有卑情下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使高山熔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使高山熔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曾賜下祭壇火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求你燒掉我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向焚燒的靈呼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聖靈滿我心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聖靈滿我心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要接鍛鍊的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照亮我魂光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散佈生命在每角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使全人聖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使全人聖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搖動的心求你扶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它變成堅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基督成為我的世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全心成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全心成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羔羊的新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美哉 善哉 羔羊的新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主 榮耀歸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福音賜下無比快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至高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基督降生下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離去尊榮是為救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如此奇恩舉世皆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愚人也會感驚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大聲讚美口唱心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主 榮耀歸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自古以來無此詩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至高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聽哪 歌聲由天飄揚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主 榮耀歸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神就是光 神也就是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至高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還保留私懷愛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主心傷掩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丟棄萬事看作糞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晨星方見出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世界所有悲傷淚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地上一切不安罪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完全不管你是誰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都已為還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大聲讚美口唱心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主 榮耀歸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自古以來無此詩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至高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應當高歌 因審判已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主 榮耀歸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主聯合 我們已復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至高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已在墳墓那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立在死亡不到地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仇敵浮沉紅海中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賜稱義的把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大聲讚美口唱心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主 榮耀歸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自古以來無此詩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至高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唱哪 祂再降臨接聖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主 榮耀歸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再耽延 教會已成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至高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今能看見前所求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也能領受久所羨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永能傾吐此心情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祂只有一前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大聲讚美口唱心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主 榮耀歸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自古以來無此詩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至高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此歌再唱聲音應明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主 榮耀歸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此歌題目應當一直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至高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唱至內心歡喜會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唱至天下佈滿此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唱至所有蒙愛新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都唱此歌不肯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 神聖膏抹 管治並運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你同在充滿我全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大聲讚美口唱心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主 榮耀歸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自古以來無此詩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至高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耶穌我愛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我愛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俯伏在你面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讚美敬拜你 主 我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哈利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哦主耶穌每想到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 主耶穌 每想到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便覺甘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願我能立刻被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到你可愛身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你如一棵美麗鳳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顯在山野葡萄園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殊姿超群秀色獨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依依戀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世上並無一個妙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能把你恩盡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人間也無一顆情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能把你愛全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你如一棵美麗鳳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顯在山野葡萄園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殊姿超群秀色獨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依依戀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那最能使我歡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尚非你愛你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乃是你的可愛自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最滿我情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你如一棵美麗鳳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顯在山野葡萄園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殊姿超群秀色獨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依依戀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生命輪子昔曾脫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時常躊躇力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如今晝夜活潑前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平安和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比美者還要更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比甜者更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外在天我心何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地我心何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你如一棵美麗鳳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顯在山野葡萄園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殊姿超群秀色獨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依依戀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你更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願愛你更深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你更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主聽此求懇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成此心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真是切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你更深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你更深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你更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前我追求幸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平安喜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今只尋求基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解我乾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今惟獨切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你更深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你更深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你更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我有一位好朋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有一位好朋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非常寶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愛我如此溫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愛非常甜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不能活無祂之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愛祂的提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所以我們就同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主與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 神聖膏抹 管治並運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你同在充滿我全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有時我幾乎臥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知我的軟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當祂叫我向祂倚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樂受祂扶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帶我走光明途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日過光明生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所以我們就同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主與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知我愛祂幾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知我愛淺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祂是用何愛愛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永不能說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乃是一愛永遠不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越過越像熱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所以彼此就相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主與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告祂以我痛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告祂以我歡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告祂以我所羨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告祂以我刺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告我以所當策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告我以所當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彼此吐心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主與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知我心真羨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能救一個靈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就叫我為祂外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去報愛的新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叫我說祂的奇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祂受死經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如此常同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主與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告我以祂國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離此並不太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心切望能夠儘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把我帶到那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終幸福喜樂在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還有榮耀寶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久我們同作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主與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天上嘉賓翩然蒞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啟發愛主之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榮面忽然顯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引我來親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渴慕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中飢渴地愛慕著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中飢渴地愛慕著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雖然我知道祂常在我身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仍要渴望見著祂的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心中渴慕著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中飢渴地愛慕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求接近祂 常與祂同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中飢渴地愛慕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中渴望能夠追隨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中渴望祂親手提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我感到祂親自帶領著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感到祂的愛永遠不離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心中渴慕著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中飢渴地愛慕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求接近祂 常與祂同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中飢渴地愛慕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也許並不知道誰是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還沒享受人生的最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啊 你能否接受祂作你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領受祂豐盛無量的恩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心中渴慕著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中飢渴地愛慕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求接近祂 常與祂同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中飢渴地愛慕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祂隱藏我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奇妙救主是耶穌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我的奇妙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隱藏我魂在磐石的穴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那裏我見樂泉湧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隱藏我魂在磐石的穴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蔭庇乾旱疲乏之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將我生命藏祂愛的深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又用祂聖手來遮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又用祂聖手來遮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 神聖膏抹 管治並運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你同在充滿我全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奇妙救主是耶穌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背去我一切重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用手緊握住使我不動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生賜我力量無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隱藏我魂在磐石的穴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蔭庇乾旱疲乏之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將我生命藏祂愛的深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又用祂聖手來遮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又用祂聖手來遮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時刻祂以無窮恩典為冠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以祂豐滿溢我心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當我被提時我要歌唱歡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奇妙我主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隱藏我魂在磐石的穴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蔭庇乾旱疲乏之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將我生命藏祂愛的深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又用祂聖手來遮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又用祂聖手來遮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復活變化我以祂光明為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祂相遇空中雲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億萬眾聖唱在穹蒼高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同喊出祂愛無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隱藏我魂在磐石的穴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蔭庇乾旱疲乏之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將我生命藏祂愛的深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又用祂聖手來遮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又用祂聖手來遮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耶穌耶穌我的性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耶穌我的性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為愛的緣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求原諒我將你聖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日念千遍不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耶穌親愛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人無物與你比擬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笑容是我歡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愛 愛你 你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愛你不知如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約束我的奇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有如一團熱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我心中火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領我進入一切真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這真理聖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切慕日日懇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主同住同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耶穌親愛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人無物與你比擬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笑容是我歡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愛 愛你 你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你是我一切一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倚靠食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羨慕我身醫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魂永遠力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耶穌親愛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人無物與你比擬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笑容是我歡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愛 愛你 你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燒燒哦愛在我心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日夜厲害的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至所以其他的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燒到無處可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耶穌親愛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人無物與你比擬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笑容是我歡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愛 愛你 你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暗中之光憂中之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天在地上開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你是我愛我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有誰知你價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耶穌親愛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人無物與你比擬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笑容是我歡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愛 愛你 你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愛將受甚麼限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要到那裏停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進進我主甘甜價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今日遠勝昨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耶穌親愛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人無物與你比擬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笑容是我歡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愛 愛你 你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 神聖膏抹 管治並運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你同在充滿我全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我要存稱謝的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存稱謝的心進入祂的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存讚美進入祂的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述說這是神所定的日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歡呼因祂使我喜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使我喜樂 祂使我喜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歡呼因祂使我喜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使我喜樂 祂使我喜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歡呼因祂使我喜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耶穌是我的我有把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是我的 我有把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使我豫嘗榮耀生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已蒙血贖回 已受恩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已由靈重生作神後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是我自傳 是我詩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讚美我救主長日不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完全順服 完全甘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被提之景象顯在眼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似乎有聲音 從天而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纏綿說憐憫耳語述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是我自傳 是我詩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讚美我救主長日不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你的靈豈非與祂會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靈豈非已與祂會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心曾否被祂所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是否認祂為人中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歡喜揀選那上好福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 求你開我眼並奪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摔碎眾偶像 並歡然加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為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7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深處神子顯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情如死之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湧出美詞口唱心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永遠稱謝謳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世界的一切虛榮珍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盡都是偶像使人顛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鍍過金使人不容易淡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浸過蜜使人真難超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 求你開我眼並奪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摔碎眾偶像 並歡然加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為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是甚麼會使地上偶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失去它那美麗的模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不是灰心失望或勸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乃是無價之寶的一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 求你開我眼並奪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摔碎眾偶像 並歡然加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為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不是甚麼本分催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就會使偶像化成灰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乃是祂榮耀美麗的噴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祂慈愛溫柔的流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 求你開我眼並奪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摔碎眾偶像 並歡然加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為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有誰願熄滅他的燈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若非早晨的日已在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又有誰願意收藏他寒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若非炎夏的風已興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 求你開我眼並奪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摔碎眾偶像 並歡然加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為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彼得所見的淚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司提反所仰望的榮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陪著馬利亞同哭的慈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會使我脫離屬地吸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 求你開我眼並奪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摔碎眾偶像 並歡然加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為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救恩十分完全 乃寶血所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凡信者有永生這應許不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論那個罪人 若實在相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必立刻從耶穌得饒恕之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 神聖膏抹 管治並運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你同在充滿我全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7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 求你大愛將我吸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你自己充滿這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蒙救贖是你的同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偶像還有甚麼相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 求你開我眼並奪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摔碎眾偶像 並歡然加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為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親愛主寶貝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親愛主寶貝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輕視我事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有誰像你如此美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如此甘甜如此柔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人中無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誰能與你相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親愛主寶貝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聽見你招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聲音入我心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就脫離所有纏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驕傲都歸虛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追求都變庸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親愛主寶貝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怎能再頑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將剛硬投你腳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領首詩歌回家去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歡喜作你奴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歡喜向你屈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親愛主寶貝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揀選你道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面順服一面流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我不肯改變地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討你喜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羨慕愛的暴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親愛主寶貝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自從你去天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臉好像不能再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天好像不能再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只想你回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只想你同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親愛主寶貝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讓我來向你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我所朝夕思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只有你能使我滿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得你甚麼都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外無所要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7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親愛主寶貝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奉獻我事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有誰像你如此美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如此甘甜如此柔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人中無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誰能與你相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救主耶穌人間光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救主耶穌人間光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生命泉源愛心根本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今撇棄世上福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虛心誠意前來親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救主真理確定不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呼求主者必蒙救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尋求主者必得尋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尋見主者必承恩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救主耶穌生命之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愈嚐靈命愈覺康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救主耶穌生命活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愈飲愈覺甘美快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論浮生境遇如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靈懷主若飢若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見主慈容我心歡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以信倚主福樂無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求主耶穌偕我同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刻刻賜我平安光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驅除一切罪惡黑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聖潔榮耀周圍照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是愛的神作我牧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是愛的神作我牧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常餵養 祂常施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屬我 我是屬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來需要 何來缺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帶我到嫩草地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我感覺滿足歡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又帶我到平靜溪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交通不斷 安息無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時迷路祂來截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再側我心受祂支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常搖動 不甚堅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引導我 是為祂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引我更親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 我是屬你 我聽你宣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知你愛我的無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我是渴望能因信升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能以和你更親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不明何等可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怎能行走 無所顧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竿扶持 你杖引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同在 滿我途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使我能大膽誇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敵雖四佈 享恩如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頭油潤 我杯滿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神從來不曾吝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甘甜奇妙大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測量我的一生年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既然永不改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讚美還要加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祂是一切最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一切最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所一切最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人生平常所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人生終久所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缺乏之時豫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倚之時扶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所有美時最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論何時信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窮喜樂原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年日展開不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一切最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所一切最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惟有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是我題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信息是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獨是我歌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所仰望是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 永是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歌頌這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救主生命大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君王建國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引我近 更近 親愛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至你流血身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引我近 更近 親愛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至你同在中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是我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擔當我的所有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次成功永遠救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我得以蒙恩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 永是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歌頌這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救主生命大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君王建國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是我生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救我脫離罪與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用祂聖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心作我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 永是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歌頌這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救主生命大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君王建國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是我大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擔當我的病與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復活生命升天豐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都分賜祂肢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 永是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歌頌這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救主生命大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君王建國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是我能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是祂賜下五旬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喔主求你使我得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聖靈常聖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 永是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歌頌這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救主生命大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君王建國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現在等候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要聽祂來的召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始終惟有耶穌可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獨萬有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 永是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歌頌這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救主生命大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君王建國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靠著你恩典 求你分別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從此專一事奉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讓我靈望你 有堅定把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志消失你旨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哦我要像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你可愛的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是我所求是我所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歡喜丟棄一切的富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盼望能和你形像合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你  哦我要像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可愛的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你模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你甘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你貞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我的衷心刻你形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你那樣細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寬恕又憐憫仁愛良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幫助孤單的勉勵灰心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尋找犯罪人不辭危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你  哦我要像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可愛的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你模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你甘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你貞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我的衷心刻你形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你那樣的忍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聖潔而謙卑於人無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溫和的接受無理的苦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寧可救別人自己死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你  哦我要像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可愛的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你模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你甘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你貞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我的衷心刻你形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你我今迫切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願出代價跟隨你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將我的所是和我的所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完全獻給你不自經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你  哦我要像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可愛的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你模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你甘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你貞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我的衷心刻你形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你正當我祈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倒下你的愛充滿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我作個殿配給你居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我的生命與你相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引我近 更近 親愛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至你流血身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引我近 更近 親愛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至你同在中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你  哦我要像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可愛的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你模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你甘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你貞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我的衷心刻你形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玉漏沙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玉漏沙殘時將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天國即將破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所慕晨曦即降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甘甜加上奇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雖經黑暗四圍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晨光今已四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榮耀今充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以馬內利之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基督你是泉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源深甘愛充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既淺嘗此泉於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定必暢飲於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那裏主愛直擴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猶如海洋湧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榮耀今充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以馬內利之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以憐憫和審判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織成我的年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憂傷的淚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也帶愛的光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領我手段何巧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計畫何純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榮耀今充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以馬內利之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是屬我良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良人也屬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帶我這卑賤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進入祂的快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那時我無他靠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只靠救主功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前來榮耀所充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以馬內利之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費時雖不多 喜樂已難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當我座前小逗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俯伏你腳前 和你面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交通有如人間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新婦不看她衣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只看所愛新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也不看我榮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只是瞻仰我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見祂賜的冠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只看祂手創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羔羊榮耀今充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以馬內利之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些人是誰 安渡約旦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死亡的拘禁亦已被衝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歡聚彼岸唱新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驅直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新耶路撒冷光明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驅直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新耶路撒冷光明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些人乃是自幼篤信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捨棄諸福樂 緊隨祂腳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罪蒙赦免身得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驅直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新耶路撒冷光明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驅直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新耶路撒冷光明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些人乃是不顧得與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隨地成戲景 到處受藐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心中仍能湧美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驅直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新耶路撒冷光明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驅直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新耶路撒冷光明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些人乃是忠心直到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為求主笑容 湯火都不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雖經苦難仍堅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引我近 更近 親愛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至你流血身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引我近 更近 親愛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至你同在中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驅直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新耶路撒冷光明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驅直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新耶路撒冷光明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些人乃是世界不配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補滿主患難 工作已告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歡繞主前到永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驅直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新耶路撒冷光明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驅直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新耶路撒冷光明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與你合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你合一永遠之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信與你成一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得你包羅萬有的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和非受造的生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你合一蒙愛之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恩成為你一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你同為父的後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作聖靈的房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你合一化身之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作你奧秘的肢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你誕生與你連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你一同客此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你合一受膏之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同得聖靈的能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日復一日時復一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你合作不稍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你合一被棄之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經過審判和咒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永遠同你向罪而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勝凶惡的陰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你合一復活之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脫離墳墓的埋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你更生同你更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靠你逐日結義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有其深處 我不能通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除非有日到那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樂有其高處 我無法達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除非安息你面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你合一升天之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同登寶座來管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權柄我也掌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我和你同位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你合一再來之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同得榮耀同臨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那時都要顯你殊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你合一無已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北風啊速興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北風啊 求速興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南風啊 快吹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吹在我心的園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滿園芬芳播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北風啊 求速興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南風啊 快吹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吹在我心的園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滿園芬芳播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的所愛到這裡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永同在嘗我純潔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的所愛到這裡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永同在嘗我純潔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哪噠香膏澆祂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秀麗髮擦祂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正當王坐席時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滿屋馨香四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哪噠香膏澆祂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秀麗髮擦祂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正當王坐席時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滿屋馨香四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的所愛到這裡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永同在嘗我純潔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的所愛到這裡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永同在嘗我純潔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像林中蘋果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喜歇祂柔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果實甘甜又成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增我力暢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引我近 更近 親愛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至你流血身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引我近 更近 親愛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至你同在中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像林中蘋果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喜歇祂柔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果實甘甜又成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增我力暢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的所愛到這裡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永同在嘗我純潔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的所愛到這裡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永同在嘗我純潔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所愛者 來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屬你 你屬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同往田間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享受各樣佳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所愛者 來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屬你 你屬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同往田間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享受各樣佳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的所愛到這裡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永同在嘗我純潔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的所愛到這裡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永同在嘗我純潔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在祂的心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銘刻如同印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愛比死更堅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眾水不能淹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在祂的心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銘刻如同印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愛比死更堅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眾水不能淹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的所愛到這裡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永同在嘗我純潔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的所愛到這裡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永同在嘗我純潔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除你以外 在高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還可以有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除你以外 在人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也別無所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除你以外 在高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還可以有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除你以外 在人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也別無所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讚美神 讚美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願天地合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讚美神 讚美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願百姓同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拜天上父神 靠耶穌神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將榮耀全歸祂 祂行了大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的所愛到這裡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永同在嘗我純潔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的所愛到這裡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永同在嘗我純潔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以愛為旗在我以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以愛為旗在我以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以愛為旗在我以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帶我進入祂的筵宴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以愛為旗在我以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以愛 以愛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以愛為旗在我以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帶我進入祂的筵宴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以愛為旗在我以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我主基督已經顯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主基督已經顯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來要摧毀撒但一切作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靠主耶穌我們已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揚聲歡呼高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齊迎接天國降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過罪祂已勝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祂已勝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戰勝死亡 祂復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祂復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過疾病 祂已掌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祂已掌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耶穌已掌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靠主聖名我們站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靠寶血能力在此地作宣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黑暗權勢不能再停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撒但國度崩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主基督已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過罪祂已勝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祂已勝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戰勝死亡 祂復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祂復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過疾病 祂已掌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祂已掌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耶穌已掌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過疾病 祂已掌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祂已掌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耶穌已掌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深居神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居神裡 更深來關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仇敵引誘四面散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非不知撒但的詭計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就近藏深隱密處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湧出活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生命的活水 從我湧出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瘸腿者行路 瞎眼看得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打開監獄門 釋放被擄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生命的活水 從我湧出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湧出活水 從我靈深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湧出活水 使我得痊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湧出活水 並賜給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那豐盛的生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我已得到宇宙至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已得到宇宙至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因此歡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歡呼基督給我得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一位基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這基督是神羔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擔當我的罪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又是神的公義太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發出醫治光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這基督是生命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在神的樂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的美果作我食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供應豐富甘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這基督是生命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流出活水江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我裡面流到永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解除一切乾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這基督是我祭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為我顯在神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也是先知滿有啟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且是君王掌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是我救主中保大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牧人策士元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兄我父我神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尊師良人密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居神裡 日日更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祂愛中 祂來保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居神裡 時刻同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日頭永不下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7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是我生命能力智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公義聖潔救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平安喜樂盼望安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亮光道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8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這基督充滿萬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怎能述盡說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首先祂是末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一切一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9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既得到這樣至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怎不歡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歡呼基督讓我得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一位基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我們卻羨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卻羨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個更美的家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就是在天上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就是在天上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所以神被稱為我們的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不以為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為祂已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給我們豫備了一座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豫備了一座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祂是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主 祂是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已從死裏復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祂是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萬膝要跪拜 萬口要承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基督是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敬拜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敬拜主 敬拜全能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能力 一切讚美都歸給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敬拜主 敬拜權柄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從祂寶座 能力流出 流到萬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居神裡 恩典常伴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靠之心增長充足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應許深植於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那時親嚐無窮喜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3048120" y="269064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2.</a:t>
            </a:r>
            <a:r>
              <a:rPr b="0" lang="zh-TW" sz="18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深居神裡 恩典常伴隨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信靠之心增長充足 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直到應許深植於我心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那時親嚐無窮喜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高舉 一同高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耶穌聖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彰顯 一同彰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榮耀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敬拜主 敬拜尊貴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曾捨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今得榮耀 萬王之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願我就近聖靈江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啊 願我就近聖靈江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啊 願我來喝聖靈江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倚靠聖靈江河來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就近 願我來喝 願我來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等候耶和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等候耶和華的 必從新得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等候耶和華的 必從新得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他們必如鷹展翅上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他們奔跑卻不困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行走卻不疲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進入幔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進入幔內 如今我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進入至聖所在 瞻仰我主榮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榮美彰顯 無一能夠相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敬拜主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進入幔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如鹿切慕溪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神啊 我的心切慕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如鹿切慕溪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你是我心所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渴慕來敬拜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我的力量盾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靈單單降服於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你是我心所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渴慕來敬拜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居神裡 日日更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祂愛中 祂來保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居神裡 時刻同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日頭永不下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長在幔內居住於主隱密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在幔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居住於主隱密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親愛聖徒樂享此恩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瞻仰聖主爾面龐顯主光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散播主仁愛口舌傳讚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在幔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浸沐於主之芬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便能向幔外發散出馨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在幔內主調爾心絃音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和樂而雄壯洋洋滿四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在幔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深而拋下靈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駕凌乎波濤恬然無驚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在幔內與主生命相合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復活能力長在爾心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榮耀你聖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父啊 我們將讚美與愛戴歸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全地將榮耀歸你聖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你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你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全地將榮耀歸你聖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 我們將讚美與愛戴歸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全地將榮耀歸你聖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你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你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全地將榮耀歸你聖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聖靈 我們將讚美與愛戴歸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領我到主前尊祂為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領我到主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領我到主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領我到主前尊祂為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卑微再卑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卑微再卑微 主於你腳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尋求你自己 哦憐憫何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滿帶著需要 主我今俯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卑微再卑微 哦願你做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居神裡 相信並摯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能安息於感覺之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安慰醫治發自祂心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屬天生命今得預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卑微再卑微 你前俯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看世上萬事 如同糞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你十架作工將我征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卑微再卑微 願你做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卑微再卑微 你前祈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願己生命消沉並被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軟弱且無有 一心向天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全倒空 你以愛下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卑微再卑微 你前俯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看世上萬事 如同糞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你十架作工將我征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卑微再卑微 願你做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卑微再卑微 卻步步高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地香甜聯結 盡解了無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願忠心走這十架窄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羞辱換冠冕 損失換祝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卑微再卑微 你前俯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看世上萬事 如同糞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你十架作工將我征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卑微再卑微 願你做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獻上活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切切渴慕你 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緊緊跟隨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恩典與慈愛永無止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信實直到永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王我的神因你奇妙聖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獻上我的讚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主耶穌 求用我一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主耶穌 求用我一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深深向你敬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靈渴慕你榮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完全相信你寶貴應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在你懷中安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向世人歌唱你的恩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我見你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主耶穌 求用我一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主耶穌 求用我一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居神裡 日日更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祂愛中 祂來保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居神裡 時刻同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日頭永不下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靈裏生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十字架上與主同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同葬且同復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如今一同升到天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活著不再是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住裡面佔領一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看主所看說主所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求主所求作主所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是自己努力掙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是主裡面動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是自己模倣基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是主裡面長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住裡面變化一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主所愛樂主所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憂主所憂負主所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心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是自己想做什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只願主旨成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是自己奢望什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只願主話成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住裡面實現一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聽主所許信主所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主所許望主所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話必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與世人同負一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樂在主內同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是自己單獨追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也愛彼此建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住裡面聯絡一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同心合意恆切禱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靈裡合一愛裡同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內一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居神裡 成為活水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湧出恩言傳祂故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等祂來誇讚並獎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祂殿中一生一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信心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門徒在世仇敵甚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致攻擊主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內有情慾外有邪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還有害人風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抵擋眾惡總要發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讓魔鬼一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雖無力自己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得勝在主救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心使我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心使我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呵 奇妙的大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心可勝世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之仁愛為我大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寶劍即是神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古今聖徒都因相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高唱得勝詩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勇猛好像旋風騰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得勝一切戰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靠此籐牌得勝死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生活安然而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心使我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心使我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呵 奇妙的大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心可勝世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四周都有仇敵圍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預備向我攻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要安居在帳棚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應到戰爭之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救恩頭盔保我無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腰束真道不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地球好像搖動懼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影響遍及環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心使我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心使我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呵 奇妙的大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心可勝世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切得勝仇敵之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都穿白衣在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天使面前盡都知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天軍俱來歡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居神裡 日日更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祂愛中 祂來保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居神裡 時刻同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日頭永不下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努力行走光明之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如火挑旺在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得勝所有黑暗魔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全靠耶穌聖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心使我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心使我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呵 奇妙的大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心可勝世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願耶和華的榮耀直存到永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耶和華的榮耀直存到永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主喜悅祂所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一生一世來向祂歌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還有氣息之時向我神來稱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主求你向我吹聖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求你向我吹聖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教我如何吸入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助我向你胸懷一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犯罪與自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呼出我的愁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呼出我罪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吸入 一直吸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所有豐富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呼出我的生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才可能被充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放棄軟弱或是力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入憐憫和恩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呼出我的愁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呼出我罪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吸入 一直吸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所有豐富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呼出我的罪律桎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已為我全除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入你的聖潔豐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發現惟你是生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呼出我的愁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呼出我罪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吸入 一直吸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所有豐富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正呼出我的憂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你慈愛的胸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入你的喜樂保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入你的甜安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呼出我的愁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呼出我罪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吸入 一直吸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所有豐富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正呼出我的病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早已為我負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正吸入你的醫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你早已賜平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呼出我的愁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呼出我罪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吸入 一直吸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所有豐富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今呼出我的羨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入你慈愛的耳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今吸入你的答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平靜疑惑和驚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呼出我的愁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呼出我罪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吸入 一直吸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所有豐富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7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今每刻都在呼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生命作生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呼一吸都在乎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求你由我來顯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呼出我的愁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呼出我罪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吸入 一直吸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所有豐富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大事神已作成 極奇妙無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靠耶穌神子我雖心中大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比這更加奇妙 更大的要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當親眼見耶穌要何等開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更深進入你的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更深進入你的愛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靈不住切求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我生命全隱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潔淨恩泉最深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親愛主握我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親愛主 握我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穩步 向前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敵雖吼 友雖疏 不驚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經風波 歷黑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得穩妥 入光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握我手 親愛主 向前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涉長途 多艱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親愛主 願你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保守 你扶助 不退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聽我求 常引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加我力 免跌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握我手 親愛主 向前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坐在親愛耶穌腳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坐在親愛耶穌腳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聆聽祂奇妙恩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喜樂見祂榮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逐日更愛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坐在親愛耶穌腳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回想走過的路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以恩典為我冠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贏得我心與我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坐在親愛耶穌腳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過世上諸福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今卸下勞苦重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靠祂胸懷享安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俯伏敬拜喜笑滿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陳明心意達天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從祂豐滿我今領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恩上加恩往天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父啊 當我這樣俯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從新得力何甘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裂天而降賜我恩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渴望常見你榮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用水藉道來潔淨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我心思像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好使別人能夠看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曾跟過復活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更深入聖潔生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消逝於基督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恩主同隱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此為我在世路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我快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快樂 耶穌真愛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快樂 耶穌真愛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快樂 耶穌真愛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口唱哈里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真愛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快樂 聖靈充滿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快樂 聖靈充滿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快樂 聖靈充滿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口唱哈里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真愛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快樂 耶穌拯救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快樂 耶穌拯救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快樂 耶穌拯救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口唱哈里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拯救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快樂 耶穌釋放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快樂 耶穌釋放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快樂 耶穌釋放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口唱哈里路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釋放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哈哈 哈哈哈哈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哈哈 哈哈哈哈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哈哈 哈哈哈哈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哈哈哈哈哈哈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哈哈哈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12A-</a:t>
            </a: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至極的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 主你愛何等深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過於我所能測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深廣遠超海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愛竟然臨及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叫你捨了自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為要叫我得著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叫你與我合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叫我成為你肢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所給所作太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過於我所能述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最大乃是與我聯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且與我相調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叫你成為我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作我一切的供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叫我享受你的自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時時以你為生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必謙卑與耶穌同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走在祂所領路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毫無怨言永不躊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聽從祂一切吩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就是你的自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那神聖的自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作了我的人生意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我活著就是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我的生命力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給我所經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你的恩愛對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所經所歷全是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什麼能使你我分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就必愛到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必與我永遠合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剛強無可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愛使我感激不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是我讚美的目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成為我 我成為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是你愛的至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12B-</a:t>
            </a: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雅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啊 你吸引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就快跑隨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深深與主密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雖然南風吹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雖然北風興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卻溢出我園中香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主全然美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主滿我心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你屬我 主我也屬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眾水不能熄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大水不能淹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必 我必愛主到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更深入聖潔生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消逝於基督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恩主同隱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此為我在世路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每日我必尋求祂喜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論是樂或遭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我知那是何等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天堂賞賜價無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更深入聖潔生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消逝於基督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恩主同隱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此為我在世路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更深進入到最後榮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將變成祂容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那時與歷世眾聖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被迎入天家樂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更深入聖潔生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消逝於基督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恩主同隱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此為我在世路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居在主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居在主裡何等甘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安息在救主腳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全然信靠滿足由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安息在受死主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讚美神 讚美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願天地合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讚美神 讚美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願百姓同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拜天上父神 靠耶穌神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將榮耀全歸祂 祂行了大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居主裡 居主裡 喔 何等甘甜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安息 安息在救主腳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發慈聲藉祂話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平安之福天賜厚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所賜平安非世能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此盼望我魂安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1"/>
          <p:cNvSpPr/>
          <p:nvPr/>
        </p:nvSpPr>
        <p:spPr>
          <a:xfrm>
            <a:off x="3048120" y="29671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副歌</a:t>
            </a:r>
            <a:r>
              <a:rPr b="0" lang="en-US" sz="16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居主裡 居主裡 喔 何等甘甜 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我安息 安息在救主腳前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居主裡 居主裡 喔 何等甘甜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安息 安息在救主腳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活著非我乃祂活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大能工作祂親自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向己死向祂而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看萬事損安息惟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居主裡 居主裡 喔 何等甘甜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安息 安息在救主腳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安息救恩已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神兒子我蒙拯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竭我力魂對世盡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平安喜樂融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居主裡 居主裡 喔 何等甘甜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安息 安息在救主腳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我的良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下到谷中 行在百合花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已看清我良人的腳蹤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救主 我愛 我急速跟你前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陣陣輕風 都訴你寶貴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啊 我良人 主 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可頌之神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耶穌曾為我流血捨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豈不知 啊 我正在尋找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請快告訴我 你腳蹤何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晌午你在何處與羊群同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傍泉可安息 炎陽有蔭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啊 我良人 主 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可頌之神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耶穌曾為我流血捨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今行近你 啊 最可愛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榮美吸我 常住你愛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莫向我心掩面 因它崇拜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曾尋我 稱我你的鴿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啊 我良人 主 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可頌之神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耶穌曾為我流血捨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聲音 比眾天使更柔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笑容 比嬌陽更明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輕輕帶我來 向你懷中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可愛極 使我傾心欲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啊 我良人 主 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可頌之神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耶穌曾為我流血捨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我獨自來到花園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獨自來到花園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玫瑰花上露珠亮晶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忽有溫柔聲 向我細叮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原來是神子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與我同行 又和我談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輕對我說 我屬於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與祂在一起 情意殷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更誰知此中歡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說話聲何等美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眾雀鳥都寂然而恭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天上恩愛語 天上好音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我心輕輕鳴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你真偉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偉大的神 我每逢靜念默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手所創 這偉大的世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見眾星 我聞那隆隆雷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權能 在全宇宙顯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與我同行 又和我談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輕對我說 我屬於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與祂在一起 情意殷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更誰知此中歡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當日色漸漸滿園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還依依不忍遽離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卻輕囑說 此去傳好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刻刻與你同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與我同行 又和我談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輕對我說 我屬於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與祂在一起 情意殷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更誰知此中歡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想主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心晝夜想你的愛 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直是至仁而至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如甘霖從高天澆下來 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我心大樂頌主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愛引領你降人世 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自願捨棄榮光之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馬槽中童女生貧寒子 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想你這樣來乃為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故我澆奠我愛在你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 因你勝一切令人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到底又盡美又盡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 使我渴想住你懷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靈飽得嘗你的愛 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前雖有罪今蒙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十字架你被釘而受害 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為我甘受詛獻你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恩除我罪使自由 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血洗我白超乎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賜聖靈安慰我 到永久 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何奇妙 全無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故我澆奠我愛在你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 因你勝一切令人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到底又盡美又盡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 使我渴想住你懷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魂歌頌 讚揚我主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偉大 何等偉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魂歌頌 讚揚我主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偉大 何等偉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眼切切望你的家 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天早為我豫備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黃金街 常遊春永消夏 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同戴榮冕登寶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口仍要唱你的愛 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其他更有何可相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等不久見你面 多開懷 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同在天上家永不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故我澆奠我愛在你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 因你勝一切令人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到底又盡美又盡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 使我渴想住你懷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主啊我深愛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啊 我深愛你甚願我永屬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你居我靈裡永不分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啊 我深愛你我是永遠屬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你已先愛我 為我捨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天我還有誰在地亦無所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願掬我衷情傾於主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啊 我深愛你我是永遠屬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你已先愛我 為我捨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金銀還有千萬聲譽可遍塵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旦若失了你我心何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啊 我深愛你我是永遠屬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你已先愛我 為我捨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除你別無所求惟你能解我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世人都難久靠你愛無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啊 我深愛你我是永遠屬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你已先愛我 為我捨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耶路撒冷黃金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路撒冷黃金城 流乳與蜜之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嚮往而懷想 日夜魂牽夢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知在彼將如何 如何喜樂歡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榮耀與光明 何等恩福無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0:00:33Z</dcterms:created>
  <dc:creator>陳建中</dc:creator>
  <dc:description/>
  <dc:language>en-US</dc:language>
  <cp:lastModifiedBy>陳建中</cp:lastModifiedBy>
  <dcterms:modified xsi:type="dcterms:W3CDTF">2016-06-09T09:36:29Z</dcterms:modified>
  <cp:revision>375</cp:revision>
  <dc:subject/>
  <dc:title>PowerPoint 簡報</dc:title>
</cp:coreProperties>
</file>