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DD7-44FD-4108-A788-827A1BBD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D27-146B-4F70-9ABF-7FD1DDC3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7061-7614-4B9F-B6C5-B7C18021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CE6-CA54-4659-9406-60C04637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88A-939E-45EF-BE35-9B2FC8C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C70-E984-40ED-8959-C4C9B4FD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6D1-910C-4B40-91F3-0D023B0F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C44-EB5D-402D-948D-D197062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D2A-30B4-4656-8875-A9FB34C9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8F6-FA52-499F-B477-7CEA642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9A9-C6A0-493A-90C8-E302BD7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C81-9D28-41CC-A131-6D9A80F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040B-D8A9-462D-B349-182DEBF1FAA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長在幔內居住於主隱密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居住於主隱密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親愛聖徒樂享此恩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瞻仰聖主爾面龐顯主光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散播主仁愛口舌傳讚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浸沐於主之芬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便能向幔外發散出馨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主調爾心絃音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和樂而雄壯洋洋滿四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深深而拋下靈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駕凌乎波濤恬然無驚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長在幔內與主生命相合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復活能力長在爾心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9:54Z</dcterms:modified>
  <cp:revision>59</cp:revision>
  <dc:subject/>
  <dc:title>PowerPoint 簡報</dc:title>
</cp:coreProperties>
</file>