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E48-A7BC-46DE-B8D2-0B805C34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CC0-C8F0-425E-A16C-F8F46CA6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8E0-2463-441B-924D-ACE01EEC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94F-A9EC-420C-8C9A-7F5DCCA6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A4B-3F9D-43BB-B993-8D7A0012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7FE-FB5F-4A96-A636-FA72EDAA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D9E-42B3-4710-A2E9-4849A9B5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DED-F439-4F36-9799-B698E7F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C5D-5F17-495D-81DD-77C65973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929-051D-47BB-B133-4C2E8E9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303-9389-4A9B-9A79-2FF8BDE8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7DF-81FB-48E6-B182-9E2DF7B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DF7D-F6E4-4452-9577-7B9E5D71C0C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想主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心晝夜想你的愛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直是至仁而至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甘霖從高天澆下來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大樂頌主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愛引領你降人世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願捨棄榮光之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馬槽中童女生貧寒子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想你這樣來乃為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故我澆奠我愛在你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因你勝一切令人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到底又盡美又盡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使我渴想住你懷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靈飽得嘗你的愛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前雖有罪今蒙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你被釘而受害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我甘受詛獻你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恩除我罪使自由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血洗我白超乎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賜聖靈安慰我 到永久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何奇妙 全無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故我澆奠我愛在你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因你勝一切令人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到底又盡美又盡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使我渴想住你懷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眼切切望你的家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天早為我豫備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黃金街 常遊春永消夏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同戴榮冕登寶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口仍要唱你的愛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其他更有何可相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等不久見你面 多開懷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在天上家永不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故我澆奠我愛在你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因你勝一切令人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到底又盡美又盡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使我渴想住你懷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1:10Z</dcterms:modified>
  <cp:revision>10</cp:revision>
  <dc:subject/>
  <dc:title>PowerPoint 簡報</dc:title>
</cp:coreProperties>
</file>