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AD2-EE4B-4C59-8130-2EE75DB8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87B-E543-4328-8A69-F2562988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BDD-C890-47E6-8D45-9AA1504D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116-E177-46B9-B422-4EE6CE59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12D-C9BD-4897-8D32-B4B947A6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BB6-B405-40AC-B77B-6FF06AA5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7C7-9315-41BA-A762-86C34FA1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763-A362-4CFD-B11F-88D65E02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B02-5512-41BD-BE98-07514DE1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2F3-39C0-45B4-B199-8A914D94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7AC-52DD-4290-8FE6-CF3C84CE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D1D-5C7C-42E9-9784-56AC503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F39C-16B5-4101-8673-3C73BE93623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路撒冷黃金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路撒冷黃金城 流乳與蜜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嚮往而懷想 日夜魂牽夢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知在彼將如何 如何喜樂歡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榮耀與光明 何等恩福無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絢爛錫安諸殿堂 到處歌聲洋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光耀天使明照眼 聖徒熙熙攘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主永遠為君王 聖庭永遠清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地花草盡奇珍 聖民永遠撫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彼有大衛寶座 在彼憂慮全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羔羊筵前齊歡呼 凱旋信眾高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昔日偕主得勝者 在彼尊貴顯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俱戴光榮之冠冕 俱著白衣灼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甘美榮樂之寶地是神選民家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潔淨無瑕之聖城 我靈切切仰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懇求慈愛主耶穌 攜我到彼同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聖父聖子聖靈 同享安樂無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2:24Z</dcterms:modified>
  <cp:revision>12</cp:revision>
  <dc:subject/>
  <dc:title>PowerPoint 簡報</dc:title>
</cp:coreProperties>
</file>