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64E6-3AC6-4AD6-9C00-D47D1630C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89BD-D0A9-44DC-AA92-A0F075861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9BDD-22C1-48ED-84CF-DE249BCF3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CEFC-3A98-4980-9451-EEDB7B537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5A29-BF50-43B4-8AEF-5CC66CE4C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D50C-C779-459D-A251-508F411D4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2155-F541-4A6D-BAAD-BC22755ED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E553-D9A9-4209-BED7-AF8E3B69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824F-D982-4165-92F8-CABECC96E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77EB-1834-4D46-A2FE-A14DD020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F734-A5BF-43CC-8A66-14C3B248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E323-62EE-4F94-B716-C4929236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13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AFE5E-6ED1-4BF3-8B6D-089815BED47A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引我更親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主 我是屬你 我聽你宣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知你愛我的無匹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但我是渴望能因信升高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能以和你更親密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吸引我近 更近 親愛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直至你流血身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吸引我近 更近 親愛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直至你同在中間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靠著你恩典 求你分別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從此專一事奉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讓我靈望你 有堅定把握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志消失你旨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吸引我近 更近 親愛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直至你流血身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吸引我近 更近 親愛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直至你同在中間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費時雖不多 喜樂已難言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當我座前小逗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俯伏你腳前 和你面對面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交通有如人間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吸引我近 更近 親愛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直至你流血身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吸引我近 更近 親愛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直至你同在中間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4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愛有其深處 我不能通曉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除非有日到那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樂有其高處 我無法達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除非安息你面前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吸引我近 更近 親愛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直至你流血身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吸引我近 更近 親愛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直至你同在中間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8T16:05:16Z</dcterms:created>
  <dc:creator>陳建中</dc:creator>
  <dc:description/>
  <dc:language>en-US</dc:language>
  <cp:lastModifiedBy>陳建中</cp:lastModifiedBy>
  <dcterms:modified xsi:type="dcterms:W3CDTF">2016-06-08T16:09:05Z</dcterms:modified>
  <cp:revision>4</cp:revision>
  <dc:subject/>
  <dc:title>PowerPoint 簡報</dc:title>
</cp:coreProperties>
</file>