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8E7-5E96-4168-813E-F33C5C46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A41-036C-43EF-A641-AAD9FD02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003-6E59-4816-83D1-E450F057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76F-3F6E-48BE-B1A9-1A33EFDA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1A5-32A3-492C-B6EE-055A6C6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A9F-18FD-4DBC-A007-9653BC73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87E-D4F9-4F70-94B1-EB7996EC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A62-FFED-41B7-8CA4-3368E447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523-9F1B-4DAE-A5C6-A57C8583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74C-6A80-492D-9CFA-8415EA6F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07F-4EF8-4451-8D47-DA736D73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D6A-A446-486E-90A5-87E1EBE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A37-BE84-408F-85DD-B6CFE84D455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已得到宇宙至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已得到宇宙至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因此歡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呼基督給我得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一位基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是神羔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擔當我的罪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是神的公義太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發出醫治光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是生命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神的樂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的美果作我食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供應豐富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是生命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流出活水江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裡面流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解除一切乾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是我祭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我顯在神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也是先知滿有啟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且是君王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我救主中保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牧人策士元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兄我父我神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尊師良人密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我生命能力智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公義聖潔救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平安喜樂盼望安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亮光道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8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充滿萬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怎能述盡說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首先祂是末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一切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9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既得到這樣至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怎不歡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呼基督讓我得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一位基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7:18Z</dcterms:modified>
  <cp:revision>51</cp:revision>
  <dc:subject/>
  <dc:title>PowerPoint 簡報</dc:title>
</cp:coreProperties>
</file>