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BD0-8AA7-4EE5-B375-2F2A5D0F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71B-3214-4E4F-9FC4-C1E260B6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F04-8E34-49F5-A20C-8E003C40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721-6317-466B-809E-6C71EB66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262-AB81-4D7E-905D-955005A1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590-A096-4C01-8262-D3D1DCBD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BA1-1557-44F6-92D6-DF8E9243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84F-CAC5-4666-AD6A-88E57581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650-D823-4F51-84BA-DF919172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BF2D-5AA9-411A-AF15-FA875692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B4D-82CE-465A-A4E4-3E306234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B60-CA35-4AD4-8EE0-AB91D495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BDDF-E08B-45A1-9015-CEE5A4217AB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獨自來到花園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獨自來到花園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玫瑰花上露珠亮晶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忽有溫柔聲 向我細叮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原來是神子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與我同行 又和我談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輕對我說 我屬於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與祂在一起 情意殷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誰知此中歡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說話聲何等美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眾雀鳥都寂然而恭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上恩愛語 天上好音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我心輕輕鳴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與我同行 又和我談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輕對我說 我屬於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與祂在一起 情意殷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誰知此中歡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日色漸漸滿園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還依依不忍遽離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卻輕囑說 此去傳好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刻刻與你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與我同行 又和我談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輕對我說 我屬於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與祂在一起 情意殷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誰知此中歡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0:49Z</dcterms:modified>
  <cp:revision>9</cp:revision>
  <dc:subject/>
  <dc:title>PowerPoint 簡報</dc:title>
</cp:coreProperties>
</file>